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2.gif" ContentType="image/gif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CBD-9890-4DF2-8DE9-9E174098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74B-6276-4FF2-94DE-F4C6E00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C4C-39BD-420B-8679-DDCD69E5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252-6E19-404D-B82E-3DD70E56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3F8D-9F37-49C8-95AE-B559ABC3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B49-955D-4AB9-810C-4D9F793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AF40-D37E-402B-BCF2-220CE10B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6D7-3778-4C6E-AA38-055D1B0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47A8-E675-4E2A-BC6B-2C1DAB2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2EB-CBA7-46B5-8814-761C879A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D18A-76AE-42DD-B072-367F6FA0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E4B-AB34-4FA4-A49A-C6CA3898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7CB1-788B-4589-A824-EAD4751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2B9E-90A2-4556-B31A-A82009A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202C-2BE8-4628-B531-ADE470B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D2A3-CDB9-4B2D-A267-6E0BE64E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DFD-8C69-4844-BF89-5A40873F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75D3-D216-46EC-B178-34A223F7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C51B-92C1-4D40-912B-ADF9A6AC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15C3-8241-4159-A94A-0D909663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64AE-A2CD-48BB-ACF7-2ED0A48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B827-549D-4925-8FEC-5489D45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782-125F-4BB4-B9EB-861793E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E16B-61E4-4E62-A395-75FFF6B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6082-77CA-44AD-B4E1-F0A2A55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27FD-2D40-4352-8CD8-9B5BA05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21F0-5FB8-421C-92D5-8316EFB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3A84-82EE-436C-91D4-05E1F9D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B887-4B04-4D33-9328-F96266CB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BC79-8B92-4573-9340-48113094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9190-5251-4D6D-A2CB-434ADE56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26B4-6AA9-4911-988E-92E7A1BD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089A-724F-40A4-A13A-8FC89DC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102-9A00-4F92-81F9-9A581B1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93AC-6466-4BEC-8AAD-10044D5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24AF-C4CD-4929-940A-5E9BB08B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F4A9-6306-4767-8599-943F5964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8E2F-DED7-4B21-BDC4-1AE1913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FB6D-F500-424F-8D04-1332B25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26EE-B4DE-4CFA-A19B-3460106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594B-5999-4056-AC06-006AACF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8573-528A-49CD-B7E9-A39E529B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3C3C-55A0-4512-B6BC-EB5804F6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A076-2ACF-4B20-8298-5BD5B48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0A2-B633-4ED9-AB38-8BA4DC1E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A0CE-ECAC-4A52-B55B-6026310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AF3F4-4B9D-4302-A379-FB70739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7459-D037-4493-B46A-1FB220F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21FE1-A461-4410-85F9-1C2CB50F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B4CA-8127-45DD-A608-4B98E950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858F-A3A2-483F-A7D6-1BF6CF3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BC53-8F2D-4569-8F6B-FA11AF9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8261B-6E37-4654-BA39-E2C8D8D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E98D-37E7-4812-B954-7FCE13A4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8CC6-EB7F-4990-A3C4-723E39CB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3E3-6FAD-4260-97A1-EE3F0878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3499-477F-43AD-A627-66669ED2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0A9D-D62A-446A-85BD-9B63D083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DCB3A-795F-44CD-9F20-91B13A87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E611-AB96-4DCD-81BB-5192635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7C57-F8B2-40DC-8E87-F8AE48E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0FBA5-8546-4495-9634-1A0CA40B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2A7A-27C2-4673-A33B-876E148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B4D5-1AC7-4EF3-97B4-DCE90C23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46F6-9DC0-421A-AE18-38FBE5E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5E81A-093B-47CE-9FD3-D5405581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7B3-928D-4225-8414-38D1180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954D5-D1AF-4D0E-A884-ACEB5D7E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DCEE-D7EA-445D-BA57-0CD1A5D9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1E92-A996-4810-B50E-62409527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3AB-5254-4572-B5AD-57AFD68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444-747B-41C7-BDFF-D2FFE26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7E9-9B6D-4699-A15F-E0186B481CD7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FB0D-2087-491F-A40E-63DA1A2D8C8C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B1B-96C9-4011-8BD3-CB17C97ECD82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5388-6093-4020-9844-D2480AAB89DE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AC67-925D-43DC-A031-DBE15678F2EC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899-E8F8-426A-8FE5-1561297EB720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488880" y="3284640"/>
            <a:ext cx="81360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PT Bold Arch"/>
              </a:rPr>
              <a:t>إعداد برنامج التكوين ، التعليم  المحي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1760" y="0"/>
            <a:ext cx="640872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66ff33"/>
                </a:solidFill>
                <a:latin typeface="Arial"/>
                <a:cs typeface="PT Bold Arch"/>
              </a:rPr>
              <a:t>الجمهورية الجزائرية الديمقراطية الشعب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66ff33"/>
                </a:solidFill>
                <a:latin typeface="Arial"/>
                <a:cs typeface="PT Bold Arch"/>
              </a:rPr>
              <a:t>وزارة التعليم العالي والبحث العلمي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ff33"/>
                </a:solidFill>
                <a:latin typeface="Arial"/>
                <a:cs typeface="PT Bold Arch"/>
              </a:rPr>
              <a:t>جامعة </a:t>
            </a:r>
            <a:r>
              <a:rPr b="1" lang="ar-DZ" sz="2400" spc="-1" strike="noStrike">
                <a:solidFill>
                  <a:srgbClr val="66ff33"/>
                </a:solidFill>
                <a:latin typeface="Arial"/>
                <a:ea typeface="PT Bold Arch"/>
              </a:rPr>
              <a:t> الشهيد حمة لخضر الواد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9160" y="5445000"/>
            <a:ext cx="440856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66ff33"/>
                </a:solidFill>
                <a:latin typeface="Arial"/>
                <a:cs typeface="PT Bold Arch"/>
              </a:rPr>
              <a:t>إعداد وتقديم الاستاذين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66ff33"/>
                </a:solidFill>
                <a:latin typeface="Arial"/>
                <a:ea typeface="PT Bold Arch"/>
              </a:rPr>
              <a:t>                    - مناعي محمد الع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66ff33"/>
                </a:solidFill>
                <a:latin typeface="Arial"/>
                <a:ea typeface="PT Bold Arch"/>
              </a:rPr>
              <a:t>                     - العرابي حريز بكا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8" descr="D:\شعار الجامعة.jpg"/>
          <p:cNvPicPr/>
          <p:nvPr/>
        </p:nvPicPr>
        <p:blipFill>
          <a:blip r:embed="rId1"/>
          <a:stretch/>
        </p:blipFill>
        <p:spPr>
          <a:xfrm>
            <a:off x="3780000" y="1889280"/>
            <a:ext cx="1420560" cy="2219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1914480" y="1271520"/>
            <a:ext cx="57229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c000"/>
                </a:solidFill>
                <a:latin typeface="Arial"/>
                <a:cs typeface="PT Bold Arch"/>
              </a:rPr>
              <a:t>خلية المرافقة البيداغوجية للأساتذ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973840" y="6415200"/>
            <a:ext cx="31399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c000"/>
                </a:solidFill>
                <a:latin typeface="Arial"/>
                <a:cs typeface="PT Bold Arch"/>
              </a:rPr>
              <a:t>أفريل </a:t>
            </a:r>
            <a:r>
              <a:rPr b="1" lang="ar-DZ" sz="2400" spc="-1" strike="noStrike">
                <a:solidFill>
                  <a:srgbClr val="ffc000"/>
                </a:solidFill>
                <a:latin typeface="Arial"/>
                <a:ea typeface="PT Bold Arch"/>
              </a:rPr>
              <a:t>20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4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98">
                                          <p:stCondLst>
                                            <p:cond delay="59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99">
                                          <p:stCondLst>
                                            <p:cond delay="119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48">
                                          <p:stCondLst>
                                            <p:cond delay="149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3" fill="hold">
                                          <p:stCondLst>
                                            <p:cond delay="58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49" fill="hold">
                                          <p:stCondLst>
                                            <p:cond delay="6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3" fill="hold">
                                          <p:stCondLst>
                                            <p:cond delay="118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49" fill="hold">
                                          <p:stCondLst>
                                            <p:cond delay="120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3" fill="hold">
                                          <p:stCondLst>
                                            <p:cond delay="147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49" fill="hold">
                                          <p:stCondLst>
                                            <p:cond delay="150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3" fill="hold">
                                          <p:stCondLst>
                                            <p:cond delay="162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49" fill="hold">
                                          <p:stCondLst>
                                            <p:cond delay="165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Rectangle 4"/>
          <p:cNvGrpSpPr/>
          <p:nvPr/>
        </p:nvGrpSpPr>
        <p:grpSpPr>
          <a:xfrm>
            <a:off x="6327720" y="274680"/>
            <a:ext cx="2328840" cy="566640"/>
            <a:chOff x="6327720" y="274680"/>
            <a:chExt cx="2328840" cy="566640"/>
          </a:xfrm>
        </p:grpSpPr>
        <p:pic>
          <p:nvPicPr>
            <p:cNvPr id="318" name="Rectangle 4" descr=""/>
            <p:cNvPicPr/>
            <p:nvPr/>
          </p:nvPicPr>
          <p:blipFill>
            <a:blip r:embed="rId1"/>
            <a:stretch/>
          </p:blipFill>
          <p:spPr>
            <a:xfrm>
              <a:off x="6327720" y="274680"/>
              <a:ext cx="2328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411960" y="35712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d0d0d"/>
                  </a:solidFill>
                  <a:latin typeface="Arial"/>
                  <a:cs typeface="Tahoma"/>
                </a:rPr>
                <a:t>وحدات التعليم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0" name="Rectangle 5"/>
          <p:cNvGrpSpPr/>
          <p:nvPr/>
        </p:nvGrpSpPr>
        <p:grpSpPr>
          <a:xfrm>
            <a:off x="274680" y="1175760"/>
            <a:ext cx="8381880" cy="825480"/>
            <a:chOff x="274680" y="1175760"/>
            <a:chExt cx="8381880" cy="825480"/>
          </a:xfrm>
        </p:grpSpPr>
        <p:pic>
          <p:nvPicPr>
            <p:cNvPr id="321" name="Rectangle 5" descr=""/>
            <p:cNvPicPr/>
            <p:nvPr/>
          </p:nvPicPr>
          <p:blipFill>
            <a:blip r:embed="rId2"/>
            <a:stretch/>
          </p:blipFill>
          <p:spPr>
            <a:xfrm>
              <a:off x="274680" y="1274760"/>
              <a:ext cx="83818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57120" y="1175760"/>
              <a:ext cx="821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وحدة التعليم الأساسية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UEF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= تشمل مواد</a:t>
              </a:r>
              <a:r>
                <a:rPr b="1" lang="fr-FR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 </a:t>
              </a:r>
              <a:r>
                <a:rPr b="1" lang="ar-DZ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 أساسية و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 ضرورية لمواصلة الدراسة في التخص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Rectangle 7"/>
          <p:cNvGrpSpPr/>
          <p:nvPr/>
        </p:nvGrpSpPr>
        <p:grpSpPr>
          <a:xfrm>
            <a:off x="201600" y="1922760"/>
            <a:ext cx="8528040" cy="1557000"/>
            <a:chOff x="201600" y="1922760"/>
            <a:chExt cx="8528040" cy="1557000"/>
          </a:xfrm>
        </p:grpSpPr>
        <p:pic>
          <p:nvPicPr>
            <p:cNvPr id="324" name="Rectangle 7" descr=""/>
            <p:cNvPicPr/>
            <p:nvPr/>
          </p:nvPicPr>
          <p:blipFill>
            <a:blip r:embed="rId3"/>
            <a:stretch/>
          </p:blipFill>
          <p:spPr>
            <a:xfrm>
              <a:off x="201600" y="2200320"/>
              <a:ext cx="8528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85840" y="1922760"/>
              <a:ext cx="8358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وحدة التعليم الاستكشافية</a:t>
              </a:r>
              <a:r>
                <a:rPr b="1" lang="ar-DZ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EUD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 =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 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cs typeface="Traditional Arabic"/>
                </a:rPr>
                <a:t>تشمل مواد تعليمية تمكن من توسيع المعارف لدى الطالب أو المتكون و تفتح له منافذ أحرى في حالة اعادة توجيهه أو تعييره للاختصا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6" name="Rectangle 10"/>
          <p:cNvGrpSpPr/>
          <p:nvPr/>
        </p:nvGrpSpPr>
        <p:grpSpPr>
          <a:xfrm>
            <a:off x="201600" y="3067920"/>
            <a:ext cx="8528040" cy="1922760"/>
            <a:chOff x="201600" y="3067920"/>
            <a:chExt cx="8528040" cy="1922760"/>
          </a:xfrm>
        </p:grpSpPr>
        <p:pic>
          <p:nvPicPr>
            <p:cNvPr id="327" name="Rectangle 10" descr=""/>
            <p:cNvPicPr/>
            <p:nvPr/>
          </p:nvPicPr>
          <p:blipFill>
            <a:blip r:embed="rId4"/>
            <a:stretch/>
          </p:blipFill>
          <p:spPr>
            <a:xfrm>
              <a:off x="201600" y="3346560"/>
              <a:ext cx="85280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85840" y="3067920"/>
              <a:ext cx="8358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وحدة التعليم المشتركة [ الأفقية]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UET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 = 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cs typeface="Traditional Arabic"/>
                </a:rPr>
                <a:t>تجمع المواد مثل اللغات الحية و الاعلام الالي و غيرها من المواد التي توفر للطالب أو المتكون أداة ضرورية لاكتساب ثقافة عامة و تقنيات منهجية تسهل الاندماج و التكيف مع المحيط الخارجي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9" name="Rectangle 472"/>
          <p:cNvGrpSpPr/>
          <p:nvPr/>
        </p:nvGrpSpPr>
        <p:grpSpPr>
          <a:xfrm>
            <a:off x="128520" y="4883040"/>
            <a:ext cx="8674200" cy="633600"/>
            <a:chOff x="128520" y="4883040"/>
            <a:chExt cx="8674200" cy="633600"/>
          </a:xfrm>
        </p:grpSpPr>
        <p:pic>
          <p:nvPicPr>
            <p:cNvPr id="330" name="Rectangle 472" descr=""/>
            <p:cNvPicPr/>
            <p:nvPr/>
          </p:nvPicPr>
          <p:blipFill>
            <a:blip r:embed="rId5"/>
            <a:stretch/>
          </p:blipFill>
          <p:spPr>
            <a:xfrm>
              <a:off x="128520" y="4883040"/>
              <a:ext cx="8674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14200" y="4968360"/>
              <a:ext cx="85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2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 ـ 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cs typeface="Traditional Arabic"/>
                </a:rPr>
                <a:t>كل وحدة تعليمية عبارة عن مجموعة أرصدة ممنوحة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2" name="Rectangle 474"/>
          <p:cNvGrpSpPr/>
          <p:nvPr/>
        </p:nvGrpSpPr>
        <p:grpSpPr>
          <a:xfrm>
            <a:off x="2200320" y="5589720"/>
            <a:ext cx="5211720" cy="639720"/>
            <a:chOff x="2200320" y="5589720"/>
            <a:chExt cx="5211720" cy="639720"/>
          </a:xfrm>
        </p:grpSpPr>
        <p:pic>
          <p:nvPicPr>
            <p:cNvPr id="333" name="Rectangle 474" descr=""/>
            <p:cNvPicPr/>
            <p:nvPr/>
          </p:nvPicPr>
          <p:blipFill>
            <a:blip r:embed="rId6"/>
            <a:stretch/>
          </p:blipFill>
          <p:spPr>
            <a:xfrm>
              <a:off x="2200320" y="5589720"/>
              <a:ext cx="5211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286000" y="5680440"/>
              <a:ext cx="50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a50021"/>
                  </a:solidFill>
                  <a:latin typeface="Arial"/>
                  <a:ea typeface="Traditional Arabic"/>
                </a:rPr>
                <a:t>3</a:t>
              </a:r>
              <a:r>
                <a:rPr b="1" lang="ar-SA" sz="2400" spc="-1" strike="noStrike">
                  <a:solidFill>
                    <a:srgbClr val="a50021"/>
                  </a:solidFill>
                  <a:latin typeface="Arial"/>
                  <a:cs typeface="Traditional Arabic"/>
                </a:rPr>
                <a:t>ـ تزود كل وحدة تعليمية بمعامل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11"/>
          <p:cNvGrpSpPr/>
          <p:nvPr/>
        </p:nvGrpSpPr>
        <p:grpSpPr>
          <a:xfrm>
            <a:off x="2743200" y="42840"/>
            <a:ext cx="4005360" cy="719280"/>
            <a:chOff x="2743200" y="42840"/>
            <a:chExt cx="4005360" cy="719280"/>
          </a:xfrm>
        </p:grpSpPr>
        <p:pic>
          <p:nvPicPr>
            <p:cNvPr id="336" name="Rectangle 11" descr=""/>
            <p:cNvPicPr/>
            <p:nvPr/>
          </p:nvPicPr>
          <p:blipFill>
            <a:blip r:embed="rId1"/>
            <a:stretch/>
          </p:blipFill>
          <p:spPr>
            <a:xfrm>
              <a:off x="2743200" y="42840"/>
              <a:ext cx="4005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843280" y="14688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66ff33"/>
                  </a:solidFill>
                  <a:latin typeface="Traditional Arabic"/>
                  <a:ea typeface="Traditional Arabic"/>
                </a:rPr>
                <a:t>2</a:t>
              </a:r>
              <a:r>
                <a:rPr b="1" lang="ar-SA" sz="2800" spc="-1" strike="noStrike">
                  <a:solidFill>
                    <a:srgbClr val="66ff33"/>
                  </a:solidFill>
                  <a:latin typeface="Traditional Arabic"/>
                  <a:ea typeface="Traditional Arabic"/>
                </a:rPr>
                <a:t> ـ الأرصدة </a:t>
              </a:r>
              <a:r>
                <a:rPr b="1" lang="fr-FR" sz="2800" spc="-1" strike="noStrike">
                  <a:solidFill>
                    <a:srgbClr val="66ff33"/>
                  </a:solidFill>
                  <a:latin typeface="Traditional Arabic"/>
                  <a:ea typeface="Traditional Arabic"/>
                </a:rPr>
                <a:t>Crédits</a:t>
              </a:r>
              <a:r>
                <a:rPr b="1" lang="fr-FR" sz="2800" spc="-1" strike="noStrike">
                  <a:solidFill>
                    <a:srgbClr val="66ff33"/>
                  </a:solidFill>
                  <a:latin typeface="Traditional Arabic"/>
                  <a:ea typeface="Traditional Arabic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8" name="Group 17"/>
          <p:cNvGrpSpPr/>
          <p:nvPr/>
        </p:nvGrpSpPr>
        <p:grpSpPr>
          <a:xfrm>
            <a:off x="71280" y="342720"/>
            <a:ext cx="8858160" cy="6372000"/>
            <a:chOff x="71280" y="342720"/>
            <a:chExt cx="8858160" cy="6372000"/>
          </a:xfrm>
        </p:grpSpPr>
        <p:grpSp>
          <p:nvGrpSpPr>
            <p:cNvPr id="339" name="Oval 14"/>
            <p:cNvGrpSpPr/>
            <p:nvPr/>
          </p:nvGrpSpPr>
          <p:grpSpPr>
            <a:xfrm>
              <a:off x="2433960" y="342720"/>
              <a:ext cx="6495480" cy="5214600"/>
              <a:chOff x="2433960" y="342720"/>
              <a:chExt cx="6495480" cy="5214600"/>
            </a:xfrm>
          </p:grpSpPr>
          <p:pic>
            <p:nvPicPr>
              <p:cNvPr id="340" name="Oval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3960" y="785880"/>
                <a:ext cx="6495480" cy="43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3444120" y="342720"/>
                <a:ext cx="4474080" cy="521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cs typeface="Traditional Arabic"/>
                  </a:rPr>
                  <a:t>يعتبر الرصيد وحدة قياس التعليم و عليه فان قيمة كل وحدة للتعليم محدد بعدد من الأرصدة</a:t>
                </a: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b3b3b"/>
                    </a:solidFill>
                    <a:latin typeface="Arial"/>
                    <a:cs typeface="Traditional Arabic"/>
                  </a:rPr>
                  <a:t>فالرصيد بمثابة الوحدة التقويمية  في سلم مرجعي خاص بكل المؤسسات الجامعية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cs typeface="Traditional Arabic"/>
                  </a:rPr>
                  <a:t>و تحدد بحجم ساعي يستفيد منه الطالب أو ينجزه </a:t>
                </a: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cs typeface="Traditional Arabic"/>
                  </a:rPr>
                  <a:t>على شكل </a:t>
                </a: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[</a:t>
                </a:r>
                <a:r>
                  <a:rPr b="1" lang="ar-SA" sz="2400" spc="-1" strike="noStrike">
                    <a:solidFill>
                      <a:srgbClr val="3b3b3b"/>
                    </a:solidFill>
                    <a:latin typeface="Arial"/>
                    <a:cs typeface="Traditional Arabic"/>
                  </a:rPr>
                  <a:t>دروس ،اعمال </a:t>
                </a:r>
                <a:r>
                  <a:rPr b="1" lang="ar-DZ" sz="2400" spc="-1" strike="noStrike">
                    <a:solidFill>
                      <a:srgbClr val="3b3b3b"/>
                    </a:solidFill>
                    <a:latin typeface="Arial"/>
                    <a:cs typeface="Traditional Arabic"/>
                  </a:rPr>
                  <a:t>تو</a:t>
                </a:r>
                <a:r>
                  <a:rPr b="1" lang="ar-SA" sz="2400" spc="-1" strike="noStrike">
                    <a:solidFill>
                      <a:srgbClr val="3b3b3b"/>
                    </a:solidFill>
                    <a:latin typeface="Arial"/>
                    <a:cs typeface="Traditional Arabic"/>
                  </a:rPr>
                  <a:t>جيهية ، أعمال تطبيقية ، بحوث ، خرجات و زيارات ميدانية ، تربصات  ....]</a:t>
                </a:r>
                <a:r>
                  <a:rPr b="1" lang="ar-SA" sz="2400" spc="-1" strike="noStrike">
                    <a:solidFill>
                      <a:srgbClr val="3b3b3b"/>
                    </a:solidFill>
                    <a:latin typeface="Arial"/>
                    <a:ea typeface="Traditional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42" name="AutoShape 16"/>
            <p:cNvGrpSpPr/>
            <p:nvPr/>
          </p:nvGrpSpPr>
          <p:grpSpPr>
            <a:xfrm>
              <a:off x="71280" y="3978000"/>
              <a:ext cx="4629240" cy="2736720"/>
              <a:chOff x="71280" y="3978000"/>
              <a:chExt cx="4629240" cy="2736720"/>
            </a:xfrm>
          </p:grpSpPr>
          <p:pic>
            <p:nvPicPr>
              <p:cNvPr id="343" name="AutoShap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3978000"/>
                <a:ext cx="4629240" cy="27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07120" y="5433480"/>
                <a:ext cx="31572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cs typeface="Traditional Arabic"/>
                  </a:rPr>
                  <a:t>حيث أن: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1</a:t>
                </a: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 </a:t>
                </a: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cs typeface="Traditional Arabic"/>
                  </a:rPr>
                  <a:t>رصيد &lt;=&gt;</a:t>
                </a: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[</a:t>
                </a: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 </a:t>
                </a:r>
                <a:r>
                  <a:rPr b="1" lang="fr-FR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20</a:t>
                </a:r>
                <a:r>
                  <a:rPr b="1" lang="fr-FR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-</a:t>
                </a:r>
                <a:r>
                  <a:rPr b="1" lang="fr-FR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25</a:t>
                </a: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 </a:t>
                </a:r>
                <a:r>
                  <a:rPr b="1" lang="ar-SA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] ساعة</a:t>
                </a:r>
                <a:r>
                  <a:rPr b="1" lang="ar-DZ" sz="2400" spc="-1" strike="noStrike">
                    <a:solidFill>
                      <a:srgbClr val="a50021"/>
                    </a:solidFill>
                    <a:latin typeface="Arial"/>
                    <a:ea typeface="Traditional Arabic"/>
                  </a:rPr>
                  <a:t> دراسية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8"/>
          <p:cNvSpPr/>
          <p:nvPr/>
        </p:nvSpPr>
        <p:spPr>
          <a:xfrm>
            <a:off x="-108000" y="509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ليسانس الاكاديمي والليسانس المهني=التدرج وهي                     البكالوريا +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3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سنو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-468360" y="184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يوجد هناك ثلاث مراحل للتكوين و هي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-1044720" y="263700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سنة الأولى متكونة من سداسيين </a:t>
            </a:r>
            <a:r>
              <a:rPr b="1" lang="ar-DZ" sz="2000" spc="-1" strike="noStrike">
                <a:solidFill>
                  <a:srgbClr val="ffffff"/>
                </a:solidFill>
                <a:latin typeface="Tahoma"/>
                <a:ea typeface="Traditional Arabic"/>
              </a:rPr>
              <a:t> </a:t>
            </a:r>
            <a:r>
              <a:rPr b="1" lang="ar-DZ" sz="2000" spc="-1" strike="noStrike">
                <a:solidFill>
                  <a:srgbClr val="ffffff"/>
                </a:solidFill>
                <a:latin typeface="Tahoma"/>
                <a:ea typeface="Traditional Arabic"/>
              </a:rPr>
              <a:t>80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  <a:ea typeface="Traditional Arabic"/>
              </a:rPr>
              <a:t>%</a:t>
            </a:r>
            <a:r>
              <a:rPr b="1" lang="ar-DZ" sz="20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واد مشتركة و </a:t>
            </a:r>
            <a:r>
              <a:rPr b="1" lang="ar-DZ" sz="2000" spc="-1" strike="noStrike">
                <a:solidFill>
                  <a:srgbClr val="ffffff"/>
                </a:solidFill>
                <a:latin typeface="Tahoma"/>
                <a:ea typeface="Traditional Arabic"/>
              </a:rPr>
              <a:t>20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  <a:ea typeface="Traditional Arabic"/>
              </a:rPr>
              <a:t>%</a:t>
            </a:r>
            <a:r>
              <a:rPr b="1" lang="ar-DZ" sz="20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واد مختلف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468360" y="41101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رحلة التكيف مع الحياة الجامعية واكتشاف مختلف المسار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-2627280" y="5308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بادئ الأساسية للتكوي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-2700360" y="595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دخل على منهجية الحياة ال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1" name="AutoShape 15"/>
          <p:cNvGrpSpPr/>
          <p:nvPr/>
        </p:nvGrpSpPr>
        <p:grpSpPr>
          <a:xfrm>
            <a:off x="7943760" y="2620800"/>
            <a:ext cx="889200" cy="762120"/>
            <a:chOff x="7943760" y="2620800"/>
            <a:chExt cx="889200" cy="762120"/>
          </a:xfrm>
        </p:grpSpPr>
        <p:pic>
          <p:nvPicPr>
            <p:cNvPr id="352" name="AutoShape 15" descr=""/>
            <p:cNvPicPr/>
            <p:nvPr/>
          </p:nvPicPr>
          <p:blipFill>
            <a:blip r:embed="rId1"/>
            <a:stretch/>
          </p:blipFill>
          <p:spPr>
            <a:xfrm>
              <a:off x="7943760" y="2620800"/>
              <a:ext cx="8892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 rot="10800000">
              <a:off x="8118000" y="2855520"/>
              <a:ext cx="515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AutoShape 16"/>
          <p:cNvGrpSpPr/>
          <p:nvPr/>
        </p:nvGrpSpPr>
        <p:grpSpPr>
          <a:xfrm>
            <a:off x="6388200" y="5450040"/>
            <a:ext cx="1146240" cy="438120"/>
            <a:chOff x="6388200" y="5450040"/>
            <a:chExt cx="1146240" cy="438120"/>
          </a:xfrm>
        </p:grpSpPr>
        <p:pic>
          <p:nvPicPr>
            <p:cNvPr id="355" name="AutoShape 16" descr=""/>
            <p:cNvPicPr/>
            <p:nvPr/>
          </p:nvPicPr>
          <p:blipFill>
            <a:blip r:embed="rId2"/>
            <a:stretch/>
          </p:blipFill>
          <p:spPr>
            <a:xfrm>
              <a:off x="6388200" y="5450040"/>
              <a:ext cx="11462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6597720" y="5603760"/>
              <a:ext cx="853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7" name="AutoShape 17"/>
          <p:cNvGrpSpPr/>
          <p:nvPr/>
        </p:nvGrpSpPr>
        <p:grpSpPr>
          <a:xfrm>
            <a:off x="6381720" y="6119640"/>
            <a:ext cx="1146240" cy="439920"/>
            <a:chOff x="6381720" y="6119640"/>
            <a:chExt cx="1146240" cy="439920"/>
          </a:xfrm>
        </p:grpSpPr>
        <p:pic>
          <p:nvPicPr>
            <p:cNvPr id="358" name="AutoShape 17" descr=""/>
            <p:cNvPicPr/>
            <p:nvPr/>
          </p:nvPicPr>
          <p:blipFill>
            <a:blip r:embed="rId3"/>
            <a:stretch/>
          </p:blipFill>
          <p:spPr>
            <a:xfrm>
              <a:off x="6381720" y="6119640"/>
              <a:ext cx="114624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88000" y="6272280"/>
              <a:ext cx="8542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AutoShape 18"/>
          <p:cNvGrpSpPr/>
          <p:nvPr/>
        </p:nvGrpSpPr>
        <p:grpSpPr>
          <a:xfrm>
            <a:off x="8089920" y="3413160"/>
            <a:ext cx="743040" cy="1371600"/>
            <a:chOff x="8089920" y="3413160"/>
            <a:chExt cx="743040" cy="1371600"/>
          </a:xfrm>
        </p:grpSpPr>
        <p:pic>
          <p:nvPicPr>
            <p:cNvPr id="361" name="AutoShape 18" descr=""/>
            <p:cNvPicPr/>
            <p:nvPr/>
          </p:nvPicPr>
          <p:blipFill>
            <a:blip r:embed="rId4"/>
            <a:stretch/>
          </p:blipFill>
          <p:spPr>
            <a:xfrm>
              <a:off x="8089920" y="3413160"/>
              <a:ext cx="7430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8172360" y="3500280"/>
              <a:ext cx="576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Line 19"/>
          <p:cNvSpPr/>
          <p:nvPr/>
        </p:nvSpPr>
        <p:spPr>
          <a:xfrm>
            <a:off x="1258920" y="3429000"/>
            <a:ext cx="66610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1224000" y="1670040"/>
            <a:ext cx="66610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-126036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سنة الثانية :مهني أو أكاديمي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95280" y="128592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رحلة التعمق في المعارف الاساسية في المسار المختار يدرس فيها حوالي </a:t>
            </a:r>
            <a:r>
              <a:rPr b="1" lang="ar-DZ" sz="2600" spc="-1" strike="noStrike">
                <a:solidFill>
                  <a:srgbClr val="ffffff"/>
                </a:solidFill>
                <a:latin typeface="Tahoma"/>
                <a:ea typeface="Traditional Arabic"/>
              </a:rPr>
              <a:t>60</a:t>
            </a:r>
            <a:r>
              <a:rPr b="1" lang="fr-FR" sz="2600" spc="-1" strike="noStrike">
                <a:solidFill>
                  <a:srgbClr val="ffffff"/>
                </a:solidFill>
                <a:latin typeface="Tahoma"/>
                <a:ea typeface="Traditional Arabic"/>
              </a:rPr>
              <a:t>% </a:t>
            </a:r>
            <a:r>
              <a:rPr b="1" lang="ar-DZ" sz="2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ن المواد المشتركة و </a:t>
            </a:r>
            <a:r>
              <a:rPr b="1" lang="ar-DZ" sz="2600" spc="-1" strike="noStrike">
                <a:solidFill>
                  <a:srgbClr val="ffffff"/>
                </a:solidFill>
                <a:latin typeface="Tahoma"/>
                <a:ea typeface="Traditional Arabic"/>
              </a:rPr>
              <a:t>40</a:t>
            </a:r>
            <a:r>
              <a:rPr b="1" lang="fr-FR" sz="2600" spc="-1" strike="noStrike">
                <a:solidFill>
                  <a:srgbClr val="ffffff"/>
                </a:solidFill>
                <a:latin typeface="Tahoma"/>
                <a:ea typeface="Traditional Arabic"/>
              </a:rPr>
              <a:t>% </a:t>
            </a:r>
            <a:r>
              <a:rPr b="1" lang="ar-DZ" sz="2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ن المواد المختلفة كما يمكن للطالب ان يختار أو يعبر الى تخصص مهني أو أكاديمي خلال السنة الدراسية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-1311120" y="2940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سنة الثالثة :التخص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55680" y="43750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رحلة التخصص الكلي في المسا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9" name="AutoShape 8"/>
          <p:cNvGrpSpPr/>
          <p:nvPr/>
        </p:nvGrpSpPr>
        <p:grpSpPr>
          <a:xfrm>
            <a:off x="7869240" y="237960"/>
            <a:ext cx="890640" cy="755640"/>
            <a:chOff x="7869240" y="237960"/>
            <a:chExt cx="890640" cy="755640"/>
          </a:xfrm>
        </p:grpSpPr>
        <p:pic>
          <p:nvPicPr>
            <p:cNvPr id="370" name="AutoShape 8" descr=""/>
            <p:cNvPicPr/>
            <p:nvPr/>
          </p:nvPicPr>
          <p:blipFill>
            <a:blip r:embed="rId1"/>
            <a:stretch/>
          </p:blipFill>
          <p:spPr>
            <a:xfrm>
              <a:off x="7869240" y="237960"/>
              <a:ext cx="890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10800000">
              <a:off x="8046720" y="468000"/>
              <a:ext cx="515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72" name="AutoShape 9"/>
          <p:cNvGrpSpPr/>
          <p:nvPr/>
        </p:nvGrpSpPr>
        <p:grpSpPr>
          <a:xfrm>
            <a:off x="7869240" y="969840"/>
            <a:ext cx="750960" cy="1365480"/>
            <a:chOff x="7869240" y="969840"/>
            <a:chExt cx="750960" cy="1365480"/>
          </a:xfrm>
        </p:grpSpPr>
        <p:pic>
          <p:nvPicPr>
            <p:cNvPr id="373" name="AutoShape 9" descr=""/>
            <p:cNvPicPr/>
            <p:nvPr/>
          </p:nvPicPr>
          <p:blipFill>
            <a:blip r:embed="rId2"/>
            <a:stretch/>
          </p:blipFill>
          <p:spPr>
            <a:xfrm>
              <a:off x="7869240" y="969840"/>
              <a:ext cx="75096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956720" y="1052640"/>
              <a:ext cx="576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75" name="AutoShape 12"/>
          <p:cNvGrpSpPr/>
          <p:nvPr/>
        </p:nvGrpSpPr>
        <p:grpSpPr>
          <a:xfrm>
            <a:off x="7864560" y="2914560"/>
            <a:ext cx="888840" cy="755640"/>
            <a:chOff x="7864560" y="2914560"/>
            <a:chExt cx="888840" cy="755640"/>
          </a:xfrm>
        </p:grpSpPr>
        <p:pic>
          <p:nvPicPr>
            <p:cNvPr id="376" name="AutoShape 12" descr=""/>
            <p:cNvPicPr/>
            <p:nvPr/>
          </p:nvPicPr>
          <p:blipFill>
            <a:blip r:embed="rId3"/>
            <a:stretch/>
          </p:blipFill>
          <p:spPr>
            <a:xfrm>
              <a:off x="7864560" y="2914560"/>
              <a:ext cx="888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 rot="10800000">
              <a:off x="8037360" y="3144600"/>
              <a:ext cx="51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78" name="AutoShape 13"/>
          <p:cNvGrpSpPr/>
          <p:nvPr/>
        </p:nvGrpSpPr>
        <p:grpSpPr>
          <a:xfrm>
            <a:off x="7869240" y="3633840"/>
            <a:ext cx="750960" cy="1371600"/>
            <a:chOff x="7869240" y="3633840"/>
            <a:chExt cx="750960" cy="1371600"/>
          </a:xfrm>
        </p:grpSpPr>
        <p:pic>
          <p:nvPicPr>
            <p:cNvPr id="379" name="AutoShape 13" descr=""/>
            <p:cNvPicPr/>
            <p:nvPr/>
          </p:nvPicPr>
          <p:blipFill>
            <a:blip r:embed="rId4"/>
            <a:stretch/>
          </p:blipFill>
          <p:spPr>
            <a:xfrm>
              <a:off x="7869240" y="3633840"/>
              <a:ext cx="750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956720" y="3718080"/>
              <a:ext cx="5760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1908000" y="5445000"/>
            <a:ext cx="5596200" cy="1433520"/>
            <a:chOff x="1908000" y="5445000"/>
            <a:chExt cx="5596200" cy="1433520"/>
          </a:xfrm>
        </p:grpSpPr>
        <p:sp>
          <p:nvSpPr>
            <p:cNvPr id="382" name="Line 14"/>
            <p:cNvSpPr/>
            <p:nvPr/>
          </p:nvSpPr>
          <p:spPr>
            <a:xfrm>
              <a:off x="4716360" y="54450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 flipV="1">
              <a:off x="1908000" y="5876640"/>
              <a:ext cx="5596200" cy="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1908000" y="5897520"/>
              <a:ext cx="0" cy="981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Line 17"/>
            <p:cNvSpPr/>
            <p:nvPr/>
          </p:nvSpPr>
          <p:spPr>
            <a:xfrm>
              <a:off x="7493040" y="5877000"/>
              <a:ext cx="0" cy="981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6" name="Line 19"/>
          <p:cNvSpPr/>
          <p:nvPr/>
        </p:nvSpPr>
        <p:spPr>
          <a:xfrm>
            <a:off x="1258920" y="3716280"/>
            <a:ext cx="641016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Line 20"/>
          <p:cNvSpPr/>
          <p:nvPr/>
        </p:nvSpPr>
        <p:spPr>
          <a:xfrm>
            <a:off x="1258920" y="1052640"/>
            <a:ext cx="651816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1"/>
          <p:cNvGrpSpPr/>
          <p:nvPr/>
        </p:nvGrpSpPr>
        <p:grpSpPr>
          <a:xfrm>
            <a:off x="928800" y="0"/>
            <a:ext cx="7091280" cy="719280"/>
            <a:chOff x="928800" y="0"/>
            <a:chExt cx="7091280" cy="719280"/>
          </a:xfrm>
        </p:grpSpPr>
        <p:sp>
          <p:nvSpPr>
            <p:cNvPr id="389" name="Line 4"/>
            <p:cNvSpPr/>
            <p:nvPr/>
          </p:nvSpPr>
          <p:spPr>
            <a:xfrm>
              <a:off x="8020080" y="27000"/>
              <a:ext cx="0" cy="69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>
              <a:off x="928800" y="0"/>
              <a:ext cx="0" cy="69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1" name="Text Box 13"/>
          <p:cNvSpPr/>
          <p:nvPr/>
        </p:nvSpPr>
        <p:spPr>
          <a:xfrm>
            <a:off x="4859280" y="2665440"/>
            <a:ext cx="3592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سمح بالدخول مباشرة في الدراسات الجامعية الجد متخصص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4427640" y="4581360"/>
            <a:ext cx="4024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رتبطة بالكفاءة والأهلية والنتائج المتحصل عليها ومعايير الدخو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0" y="2657520"/>
            <a:ext cx="3843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سمح بالدخول مباشرة في الدراسات ذات الطابع المهن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ي عالم الشغل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250920" y="4581360"/>
            <a:ext cx="359244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سمح بالعودة الى  الدراسة في الجامعة بعد مرور وقت في الحياة المهن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5" name="Group 32"/>
          <p:cNvGrpSpPr/>
          <p:nvPr/>
        </p:nvGrpSpPr>
        <p:grpSpPr>
          <a:xfrm>
            <a:off x="250920" y="744480"/>
            <a:ext cx="8858160" cy="4341960"/>
            <a:chOff x="250920" y="744480"/>
            <a:chExt cx="8858160" cy="4341960"/>
          </a:xfrm>
        </p:grpSpPr>
        <p:sp>
          <p:nvSpPr>
            <p:cNvPr id="396" name="Text Box 6"/>
            <p:cNvSpPr/>
            <p:nvPr/>
          </p:nvSpPr>
          <p:spPr>
            <a:xfrm>
              <a:off x="5354640" y="77940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cs typeface="Traditional Arabic"/>
                </a:rPr>
                <a:t>الليسانس الأكاديمي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250920" y="744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cs typeface="Traditional Arabic"/>
                </a:rPr>
                <a:t>الليسانس المهني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8534520" y="2809800"/>
              <a:ext cx="574560" cy="360360"/>
            </a:xfrm>
            <a:prstGeom prst="leftArrow">
              <a:avLst>
                <a:gd name="adj1" fmla="val 50000"/>
                <a:gd name="adj2" fmla="val 39860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AutoShape 16"/>
            <p:cNvSpPr/>
            <p:nvPr/>
          </p:nvSpPr>
          <p:spPr>
            <a:xfrm>
              <a:off x="8534520" y="4726080"/>
              <a:ext cx="574560" cy="360360"/>
            </a:xfrm>
            <a:prstGeom prst="leftArrow">
              <a:avLst>
                <a:gd name="adj1" fmla="val 50000"/>
                <a:gd name="adj2" fmla="val 39860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AutoShape 18"/>
            <p:cNvSpPr/>
            <p:nvPr/>
          </p:nvSpPr>
          <p:spPr>
            <a:xfrm>
              <a:off x="3925800" y="280188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AutoShape 20"/>
            <p:cNvSpPr/>
            <p:nvPr/>
          </p:nvSpPr>
          <p:spPr>
            <a:xfrm>
              <a:off x="3925800" y="472428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2" name="Group 25"/>
            <p:cNvGrpSpPr/>
            <p:nvPr/>
          </p:nvGrpSpPr>
          <p:grpSpPr>
            <a:xfrm>
              <a:off x="900000" y="1341360"/>
              <a:ext cx="3600720" cy="3635280"/>
              <a:chOff x="900000" y="1341360"/>
              <a:chExt cx="3600720" cy="3635280"/>
            </a:xfrm>
          </p:grpSpPr>
          <p:sp>
            <p:nvSpPr>
              <p:cNvPr id="403" name="Line 23"/>
              <p:cNvSpPr/>
              <p:nvPr/>
            </p:nvSpPr>
            <p:spPr>
              <a:xfrm>
                <a:off x="900000" y="1341360"/>
                <a:ext cx="360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Line 24"/>
              <p:cNvSpPr/>
              <p:nvPr/>
            </p:nvSpPr>
            <p:spPr>
              <a:xfrm>
                <a:off x="4500720" y="1341360"/>
                <a:ext cx="0" cy="3635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5" name="Group 26"/>
            <p:cNvGrpSpPr/>
            <p:nvPr/>
          </p:nvGrpSpPr>
          <p:grpSpPr>
            <a:xfrm>
              <a:off x="5508720" y="1341360"/>
              <a:ext cx="3600360" cy="3635280"/>
              <a:chOff x="5508720" y="1341360"/>
              <a:chExt cx="3600360" cy="3635280"/>
            </a:xfrm>
          </p:grpSpPr>
          <p:sp>
            <p:nvSpPr>
              <p:cNvPr id="406" name="Line 27"/>
              <p:cNvSpPr/>
              <p:nvPr/>
            </p:nvSpPr>
            <p:spPr>
              <a:xfrm>
                <a:off x="5508720" y="1341360"/>
                <a:ext cx="3600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Line 28"/>
              <p:cNvSpPr/>
              <p:nvPr/>
            </p:nvSpPr>
            <p:spPr>
              <a:xfrm>
                <a:off x="9109080" y="1341360"/>
                <a:ext cx="0" cy="3635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transition advTm="10000"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5"/>
          <p:cNvSpPr/>
          <p:nvPr/>
        </p:nvSpPr>
        <p:spPr>
          <a:xfrm>
            <a:off x="826920" y="549360"/>
            <a:ext cx="72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ثال على مجال العلوم والتكنولوجيا في جامعتنا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6"/>
          <p:cNvSpPr/>
          <p:nvPr/>
        </p:nvSpPr>
        <p:spPr>
          <a:xfrm rot="20908800">
            <a:off x="2250360" y="3633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سنة الثانية اكاديمي</a:t>
            </a:r>
            <a:r>
              <a:rPr b="0" lang="ar-D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1141920" y="40053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سنة الاول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Freeform 8"/>
          <p:cNvSpPr/>
          <p:nvPr/>
        </p:nvSpPr>
        <p:spPr>
          <a:xfrm>
            <a:off x="1208160" y="4049640"/>
            <a:ext cx="5236920" cy="3873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Freeform 9"/>
          <p:cNvSpPr/>
          <p:nvPr/>
        </p:nvSpPr>
        <p:spPr>
          <a:xfrm>
            <a:off x="1208160" y="3429000"/>
            <a:ext cx="5256000" cy="10080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Freeform 10"/>
          <p:cNvSpPr/>
          <p:nvPr/>
        </p:nvSpPr>
        <p:spPr>
          <a:xfrm>
            <a:off x="1279440" y="4076640"/>
            <a:ext cx="5184720" cy="7668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4" name="Group 11"/>
          <p:cNvGrpSpPr/>
          <p:nvPr/>
        </p:nvGrpSpPr>
        <p:grpSpPr>
          <a:xfrm>
            <a:off x="4448160" y="3768840"/>
            <a:ext cx="574560" cy="576000"/>
            <a:chOff x="4448160" y="3768840"/>
            <a:chExt cx="574560" cy="576000"/>
          </a:xfrm>
        </p:grpSpPr>
        <p:sp>
          <p:nvSpPr>
            <p:cNvPr id="415" name="Oval 12"/>
            <p:cNvSpPr/>
            <p:nvPr/>
          </p:nvSpPr>
          <p:spPr>
            <a:xfrm>
              <a:off x="4462560" y="3783240"/>
              <a:ext cx="558000" cy="559440"/>
            </a:xfrm>
            <a:prstGeom prst="ellipse">
              <a:avLst/>
            </a:prstGeom>
            <a:solidFill>
              <a:srgbClr val="00c8c3"/>
            </a:solidFill>
            <a:ln cap="sq" w="12600">
              <a:solidFill>
                <a:srgbClr val="00c8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4448160" y="3768840"/>
              <a:ext cx="574560" cy="576000"/>
            </a:xfrm>
            <a:prstGeom prst="pie">
              <a:avLst/>
            </a:pr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AutoShape 15"/>
          <p:cNvSpPr/>
          <p:nvPr/>
        </p:nvSpPr>
        <p:spPr>
          <a:xfrm>
            <a:off x="1122480" y="2203560"/>
            <a:ext cx="1649160" cy="288720"/>
          </a:xfrm>
          <a:prstGeom prst="flowChartProcess">
            <a:avLst/>
          </a:prstGeom>
          <a:solidFill>
            <a:srgbClr val="6ea0b0"/>
          </a:solidFill>
          <a:ln w="0">
            <a:noFill/>
          </a:ln>
          <a:effectLst>
            <a:outerShdw dist="17819" dir="2700000" blurRad="0" rotWithShape="0">
              <a:srgbClr val="426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400" spc="-1" strike="noStrike">
                <a:solidFill>
                  <a:srgbClr val="ffffff"/>
                </a:solidFill>
                <a:latin typeface="Arial"/>
              </a:rPr>
              <a:t>السنة الاولى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16"/>
          <p:cNvSpPr/>
          <p:nvPr/>
        </p:nvSpPr>
        <p:spPr>
          <a:xfrm>
            <a:off x="2698920" y="2203560"/>
            <a:ext cx="2016000" cy="288720"/>
          </a:xfrm>
          <a:prstGeom prst="flowChartProcess">
            <a:avLst/>
          </a:prstGeom>
          <a:solidFill>
            <a:srgbClr val="6ea0b0"/>
          </a:solidFill>
          <a:ln w="0">
            <a:noFill/>
          </a:ln>
          <a:effectLst>
            <a:outerShdw dist="17819" dir="2700000" blurRad="0" rotWithShape="0">
              <a:srgbClr val="426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400" spc="-1" strike="noStrike">
                <a:solidFill>
                  <a:srgbClr val="ffffff"/>
                </a:solidFill>
                <a:latin typeface="Arial"/>
              </a:rPr>
              <a:t>السنة الثانية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AutoShape 17"/>
          <p:cNvSpPr/>
          <p:nvPr/>
        </p:nvSpPr>
        <p:spPr>
          <a:xfrm>
            <a:off x="4716360" y="2205000"/>
            <a:ext cx="1727280" cy="289080"/>
          </a:xfrm>
          <a:prstGeom prst="flowChartProcess">
            <a:avLst/>
          </a:prstGeom>
          <a:solidFill>
            <a:srgbClr val="6ea0b0"/>
          </a:solidFill>
          <a:ln w="0">
            <a:noFill/>
          </a:ln>
          <a:effectLst>
            <a:outerShdw dist="17819" dir="2700000" blurRad="0" rotWithShape="0">
              <a:srgbClr val="426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400" spc="-1" strike="noStrike">
                <a:solidFill>
                  <a:srgbClr val="ffffff"/>
                </a:solidFill>
                <a:latin typeface="Arial"/>
              </a:rPr>
              <a:t>السنة الثالثة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394920" y="2560680"/>
            <a:ext cx="26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80% 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</a:rPr>
              <a:t>جذع مشترك-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شترك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20% 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تلف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2874960" y="256068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60% 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</a:rPr>
              <a:t>اختصاص- 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شترك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40% </a:t>
            </a:r>
            <a:r>
              <a:rPr b="1" lang="ar-DZ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ختلف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4732200" y="2560680"/>
            <a:ext cx="168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خصص-المسار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21"/>
          <p:cNvSpPr/>
          <p:nvPr/>
        </p:nvSpPr>
        <p:spPr>
          <a:xfrm>
            <a:off x="329040" y="164304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مسارات نوع الليسانس الاكاديم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4" name="Group 22"/>
          <p:cNvGrpSpPr/>
          <p:nvPr/>
        </p:nvGrpSpPr>
        <p:grpSpPr>
          <a:xfrm>
            <a:off x="992160" y="4149720"/>
            <a:ext cx="286920" cy="574560"/>
            <a:chOff x="992160" y="4149720"/>
            <a:chExt cx="286920" cy="574560"/>
          </a:xfrm>
        </p:grpSpPr>
        <p:sp>
          <p:nvSpPr>
            <p:cNvPr id="425" name="Freeform 23"/>
            <p:cNvSpPr/>
            <p:nvPr/>
          </p:nvSpPr>
          <p:spPr>
            <a:xfrm>
              <a:off x="992160" y="416232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1109880" y="421236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1115640" y="423468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1125360" y="419220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1144440" y="419400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1112760" y="422208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1144440" y="422136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1141920" y="423432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1125720" y="423432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1112040" y="419292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1128240" y="423720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1135440" y="425196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1113840" y="425268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1137240" y="427320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1118880" y="427824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1254960" y="431280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112760" y="419220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127160" y="422280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3" name="Group 41"/>
            <p:cNvGrpSpPr/>
            <p:nvPr/>
          </p:nvGrpSpPr>
          <p:grpSpPr>
            <a:xfrm>
              <a:off x="1077120" y="4149720"/>
              <a:ext cx="114120" cy="44640"/>
              <a:chOff x="1077120" y="4149720"/>
              <a:chExt cx="114120" cy="44640"/>
            </a:xfrm>
          </p:grpSpPr>
          <p:sp>
            <p:nvSpPr>
              <p:cNvPr id="444" name="AutoShape 42"/>
              <p:cNvSpPr/>
              <p:nvPr/>
            </p:nvSpPr>
            <p:spPr>
              <a:xfrm>
                <a:off x="1105560" y="416520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Freeform 43"/>
              <p:cNvSpPr/>
              <p:nvPr/>
            </p:nvSpPr>
            <p:spPr>
              <a:xfrm>
                <a:off x="1077120" y="414972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6" name="Freeform 44"/>
            <p:cNvSpPr/>
            <p:nvPr/>
          </p:nvSpPr>
          <p:spPr>
            <a:xfrm>
              <a:off x="1180800" y="416052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7" name="Group 45"/>
          <p:cNvGrpSpPr/>
          <p:nvPr/>
        </p:nvGrpSpPr>
        <p:grpSpPr>
          <a:xfrm>
            <a:off x="992160" y="4149720"/>
            <a:ext cx="286920" cy="574560"/>
            <a:chOff x="992160" y="4149720"/>
            <a:chExt cx="286920" cy="574560"/>
          </a:xfrm>
        </p:grpSpPr>
        <p:sp>
          <p:nvSpPr>
            <p:cNvPr id="448" name="Freeform 46"/>
            <p:cNvSpPr/>
            <p:nvPr/>
          </p:nvSpPr>
          <p:spPr>
            <a:xfrm>
              <a:off x="992160" y="416232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1109880" y="421236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1115640" y="423468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1125360" y="419220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1144440" y="419400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1112760" y="422208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1144440" y="422136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1141920" y="423432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1125720" y="423432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1112040" y="419292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1128240" y="423720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135440" y="425196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1113840" y="425268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1137240" y="427320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1118880" y="427824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1254960" y="431280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1112760" y="419220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1127160" y="422280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6" name="Group 64"/>
            <p:cNvGrpSpPr/>
            <p:nvPr/>
          </p:nvGrpSpPr>
          <p:grpSpPr>
            <a:xfrm>
              <a:off x="1077120" y="4149720"/>
              <a:ext cx="114120" cy="44640"/>
              <a:chOff x="1077120" y="4149720"/>
              <a:chExt cx="114120" cy="44640"/>
            </a:xfrm>
          </p:grpSpPr>
          <p:sp>
            <p:nvSpPr>
              <p:cNvPr id="467" name="AutoShape 65"/>
              <p:cNvSpPr/>
              <p:nvPr/>
            </p:nvSpPr>
            <p:spPr>
              <a:xfrm>
                <a:off x="1105560" y="416520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66"/>
              <p:cNvSpPr/>
              <p:nvPr/>
            </p:nvSpPr>
            <p:spPr>
              <a:xfrm>
                <a:off x="1077120" y="414972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69" name="Freeform 67"/>
            <p:cNvSpPr/>
            <p:nvPr/>
          </p:nvSpPr>
          <p:spPr>
            <a:xfrm>
              <a:off x="1180800" y="416052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0" name="Group 68"/>
          <p:cNvGrpSpPr/>
          <p:nvPr/>
        </p:nvGrpSpPr>
        <p:grpSpPr>
          <a:xfrm>
            <a:off x="992160" y="4149720"/>
            <a:ext cx="286920" cy="574560"/>
            <a:chOff x="992160" y="4149720"/>
            <a:chExt cx="286920" cy="574560"/>
          </a:xfrm>
        </p:grpSpPr>
        <p:sp>
          <p:nvSpPr>
            <p:cNvPr id="471" name="Freeform 69"/>
            <p:cNvSpPr/>
            <p:nvPr/>
          </p:nvSpPr>
          <p:spPr>
            <a:xfrm>
              <a:off x="992160" y="416232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1109880" y="421236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115640" y="423468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25360" y="419220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144440" y="419400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112760" y="422208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144440" y="422136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141920" y="423432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125720" y="423432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112040" y="419292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128240" y="423720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135440" y="425196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113840" y="425268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137240" y="427320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1118880" y="427824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1254960" y="431280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1112760" y="419220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1127160" y="422280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9" name="Group 87"/>
            <p:cNvGrpSpPr/>
            <p:nvPr/>
          </p:nvGrpSpPr>
          <p:grpSpPr>
            <a:xfrm>
              <a:off x="1077120" y="4149720"/>
              <a:ext cx="114120" cy="44640"/>
              <a:chOff x="1077120" y="4149720"/>
              <a:chExt cx="114120" cy="44640"/>
            </a:xfrm>
          </p:grpSpPr>
          <p:sp>
            <p:nvSpPr>
              <p:cNvPr id="490" name="AutoShape 88"/>
              <p:cNvSpPr/>
              <p:nvPr/>
            </p:nvSpPr>
            <p:spPr>
              <a:xfrm>
                <a:off x="1105560" y="416520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89"/>
              <p:cNvSpPr/>
              <p:nvPr/>
            </p:nvSpPr>
            <p:spPr>
              <a:xfrm>
                <a:off x="1077120" y="414972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92" name="Freeform 90"/>
            <p:cNvSpPr/>
            <p:nvPr/>
          </p:nvSpPr>
          <p:spPr>
            <a:xfrm>
              <a:off x="1180800" y="416052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3" name="Group 91"/>
          <p:cNvGrpSpPr/>
          <p:nvPr/>
        </p:nvGrpSpPr>
        <p:grpSpPr>
          <a:xfrm>
            <a:off x="992160" y="4149720"/>
            <a:ext cx="286920" cy="574560"/>
            <a:chOff x="992160" y="4149720"/>
            <a:chExt cx="286920" cy="574560"/>
          </a:xfrm>
        </p:grpSpPr>
        <p:sp>
          <p:nvSpPr>
            <p:cNvPr id="494" name="Freeform 92"/>
            <p:cNvSpPr/>
            <p:nvPr/>
          </p:nvSpPr>
          <p:spPr>
            <a:xfrm>
              <a:off x="992160" y="416232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1109880" y="421236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1115640" y="423468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1125360" y="419220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1144440" y="419400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1112760" y="422208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1144440" y="422136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1141920" y="423432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1125720" y="423432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1112040" y="419292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1128240" y="423720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1135440" y="425196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1113840" y="425268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1137240" y="427320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1118880" y="427824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1254960" y="431280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1112760" y="419220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1127160" y="422280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2" name="Group 110"/>
            <p:cNvGrpSpPr/>
            <p:nvPr/>
          </p:nvGrpSpPr>
          <p:grpSpPr>
            <a:xfrm>
              <a:off x="1077120" y="4149720"/>
              <a:ext cx="114120" cy="44640"/>
              <a:chOff x="1077120" y="4149720"/>
              <a:chExt cx="114120" cy="44640"/>
            </a:xfrm>
          </p:grpSpPr>
          <p:sp>
            <p:nvSpPr>
              <p:cNvPr id="513" name="AutoShape 111"/>
              <p:cNvSpPr/>
              <p:nvPr/>
            </p:nvSpPr>
            <p:spPr>
              <a:xfrm>
                <a:off x="1105560" y="416520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12"/>
              <p:cNvSpPr/>
              <p:nvPr/>
            </p:nvSpPr>
            <p:spPr>
              <a:xfrm>
                <a:off x="1077120" y="414972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5" name="Freeform 113"/>
            <p:cNvSpPr/>
            <p:nvPr/>
          </p:nvSpPr>
          <p:spPr>
            <a:xfrm>
              <a:off x="1180800" y="416052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6" name="Text Box 114"/>
          <p:cNvSpPr/>
          <p:nvPr/>
        </p:nvSpPr>
        <p:spPr>
          <a:xfrm>
            <a:off x="6650280" y="308916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يكانيك طاقوية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115"/>
          <p:cNvSpPr/>
          <p:nvPr/>
        </p:nvSpPr>
        <p:spPr>
          <a:xfrm>
            <a:off x="6838200" y="34290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ترو ميكاني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116"/>
          <p:cNvSpPr/>
          <p:nvPr/>
        </p:nvSpPr>
        <p:spPr>
          <a:xfrm>
            <a:off x="6862320" y="37893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صيانة صناعية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117"/>
          <p:cNvGrpSpPr/>
          <p:nvPr/>
        </p:nvGrpSpPr>
        <p:grpSpPr>
          <a:xfrm>
            <a:off x="992160" y="4367160"/>
            <a:ext cx="286920" cy="574560"/>
            <a:chOff x="992160" y="4367160"/>
            <a:chExt cx="286920" cy="574560"/>
          </a:xfrm>
        </p:grpSpPr>
        <p:sp>
          <p:nvSpPr>
            <p:cNvPr id="520" name="Freeform 118"/>
            <p:cNvSpPr/>
            <p:nvPr/>
          </p:nvSpPr>
          <p:spPr>
            <a:xfrm>
              <a:off x="992160" y="437976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19"/>
            <p:cNvSpPr/>
            <p:nvPr/>
          </p:nvSpPr>
          <p:spPr>
            <a:xfrm>
              <a:off x="1109880" y="442980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20"/>
            <p:cNvSpPr/>
            <p:nvPr/>
          </p:nvSpPr>
          <p:spPr>
            <a:xfrm>
              <a:off x="1115640" y="445212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21"/>
            <p:cNvSpPr/>
            <p:nvPr/>
          </p:nvSpPr>
          <p:spPr>
            <a:xfrm>
              <a:off x="1125360" y="440964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122"/>
            <p:cNvSpPr/>
            <p:nvPr/>
          </p:nvSpPr>
          <p:spPr>
            <a:xfrm>
              <a:off x="1144440" y="441144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123"/>
            <p:cNvSpPr/>
            <p:nvPr/>
          </p:nvSpPr>
          <p:spPr>
            <a:xfrm>
              <a:off x="1112760" y="443952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24"/>
            <p:cNvSpPr/>
            <p:nvPr/>
          </p:nvSpPr>
          <p:spPr>
            <a:xfrm>
              <a:off x="1144440" y="443880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25"/>
            <p:cNvSpPr/>
            <p:nvPr/>
          </p:nvSpPr>
          <p:spPr>
            <a:xfrm>
              <a:off x="1141920" y="445176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26"/>
            <p:cNvSpPr/>
            <p:nvPr/>
          </p:nvSpPr>
          <p:spPr>
            <a:xfrm>
              <a:off x="1125720" y="445176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127"/>
            <p:cNvSpPr/>
            <p:nvPr/>
          </p:nvSpPr>
          <p:spPr>
            <a:xfrm>
              <a:off x="1112040" y="441036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128"/>
            <p:cNvSpPr/>
            <p:nvPr/>
          </p:nvSpPr>
          <p:spPr>
            <a:xfrm>
              <a:off x="1128240" y="445464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Freeform 129"/>
            <p:cNvSpPr/>
            <p:nvPr/>
          </p:nvSpPr>
          <p:spPr>
            <a:xfrm>
              <a:off x="1135440" y="446940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Freeform 130"/>
            <p:cNvSpPr/>
            <p:nvPr/>
          </p:nvSpPr>
          <p:spPr>
            <a:xfrm>
              <a:off x="1113840" y="447012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Freeform 131"/>
            <p:cNvSpPr/>
            <p:nvPr/>
          </p:nvSpPr>
          <p:spPr>
            <a:xfrm>
              <a:off x="1137240" y="449064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132"/>
            <p:cNvSpPr/>
            <p:nvPr/>
          </p:nvSpPr>
          <p:spPr>
            <a:xfrm>
              <a:off x="1118880" y="449568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133"/>
            <p:cNvSpPr/>
            <p:nvPr/>
          </p:nvSpPr>
          <p:spPr>
            <a:xfrm>
              <a:off x="1254960" y="453024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134"/>
            <p:cNvSpPr/>
            <p:nvPr/>
          </p:nvSpPr>
          <p:spPr>
            <a:xfrm>
              <a:off x="1112760" y="440964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135"/>
            <p:cNvSpPr/>
            <p:nvPr/>
          </p:nvSpPr>
          <p:spPr>
            <a:xfrm>
              <a:off x="1127160" y="444024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8" name="Group 136"/>
            <p:cNvGrpSpPr/>
            <p:nvPr/>
          </p:nvGrpSpPr>
          <p:grpSpPr>
            <a:xfrm>
              <a:off x="1077120" y="4367160"/>
              <a:ext cx="114120" cy="44640"/>
              <a:chOff x="1077120" y="4367160"/>
              <a:chExt cx="114120" cy="44640"/>
            </a:xfrm>
          </p:grpSpPr>
          <p:sp>
            <p:nvSpPr>
              <p:cNvPr id="539" name="AutoShape 137"/>
              <p:cNvSpPr/>
              <p:nvPr/>
            </p:nvSpPr>
            <p:spPr>
              <a:xfrm>
                <a:off x="1105560" y="438264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138"/>
              <p:cNvSpPr/>
              <p:nvPr/>
            </p:nvSpPr>
            <p:spPr>
              <a:xfrm>
                <a:off x="1077120" y="436716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41" name="Freeform 139"/>
            <p:cNvSpPr/>
            <p:nvPr/>
          </p:nvSpPr>
          <p:spPr>
            <a:xfrm>
              <a:off x="1180800" y="437796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2" name="Group 140"/>
          <p:cNvGrpSpPr/>
          <p:nvPr/>
        </p:nvGrpSpPr>
        <p:grpSpPr>
          <a:xfrm>
            <a:off x="992160" y="4583160"/>
            <a:ext cx="286920" cy="574560"/>
            <a:chOff x="992160" y="4583160"/>
            <a:chExt cx="286920" cy="574560"/>
          </a:xfrm>
        </p:grpSpPr>
        <p:sp>
          <p:nvSpPr>
            <p:cNvPr id="543" name="Freeform 141"/>
            <p:cNvSpPr/>
            <p:nvPr/>
          </p:nvSpPr>
          <p:spPr>
            <a:xfrm>
              <a:off x="992160" y="459576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142"/>
            <p:cNvSpPr/>
            <p:nvPr/>
          </p:nvSpPr>
          <p:spPr>
            <a:xfrm>
              <a:off x="1109880" y="464580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143"/>
            <p:cNvSpPr/>
            <p:nvPr/>
          </p:nvSpPr>
          <p:spPr>
            <a:xfrm>
              <a:off x="1115640" y="466812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144"/>
            <p:cNvSpPr/>
            <p:nvPr/>
          </p:nvSpPr>
          <p:spPr>
            <a:xfrm>
              <a:off x="1125360" y="462564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145"/>
            <p:cNvSpPr/>
            <p:nvPr/>
          </p:nvSpPr>
          <p:spPr>
            <a:xfrm>
              <a:off x="1144440" y="462744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146"/>
            <p:cNvSpPr/>
            <p:nvPr/>
          </p:nvSpPr>
          <p:spPr>
            <a:xfrm>
              <a:off x="1112760" y="465552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147"/>
            <p:cNvSpPr/>
            <p:nvPr/>
          </p:nvSpPr>
          <p:spPr>
            <a:xfrm>
              <a:off x="1144440" y="465480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148"/>
            <p:cNvSpPr/>
            <p:nvPr/>
          </p:nvSpPr>
          <p:spPr>
            <a:xfrm>
              <a:off x="1141920" y="466776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149"/>
            <p:cNvSpPr/>
            <p:nvPr/>
          </p:nvSpPr>
          <p:spPr>
            <a:xfrm>
              <a:off x="1125720" y="466776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150"/>
            <p:cNvSpPr/>
            <p:nvPr/>
          </p:nvSpPr>
          <p:spPr>
            <a:xfrm>
              <a:off x="1112040" y="462636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151"/>
            <p:cNvSpPr/>
            <p:nvPr/>
          </p:nvSpPr>
          <p:spPr>
            <a:xfrm>
              <a:off x="1128240" y="467064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152"/>
            <p:cNvSpPr/>
            <p:nvPr/>
          </p:nvSpPr>
          <p:spPr>
            <a:xfrm>
              <a:off x="1135440" y="468540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153"/>
            <p:cNvSpPr/>
            <p:nvPr/>
          </p:nvSpPr>
          <p:spPr>
            <a:xfrm>
              <a:off x="1113840" y="468612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154"/>
            <p:cNvSpPr/>
            <p:nvPr/>
          </p:nvSpPr>
          <p:spPr>
            <a:xfrm>
              <a:off x="1137240" y="470664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155"/>
            <p:cNvSpPr/>
            <p:nvPr/>
          </p:nvSpPr>
          <p:spPr>
            <a:xfrm>
              <a:off x="1118880" y="471168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156"/>
            <p:cNvSpPr/>
            <p:nvPr/>
          </p:nvSpPr>
          <p:spPr>
            <a:xfrm>
              <a:off x="1254960" y="474624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157"/>
            <p:cNvSpPr/>
            <p:nvPr/>
          </p:nvSpPr>
          <p:spPr>
            <a:xfrm>
              <a:off x="1112760" y="462564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158"/>
            <p:cNvSpPr/>
            <p:nvPr/>
          </p:nvSpPr>
          <p:spPr>
            <a:xfrm>
              <a:off x="1127160" y="465624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1" name="Group 159"/>
            <p:cNvGrpSpPr/>
            <p:nvPr/>
          </p:nvGrpSpPr>
          <p:grpSpPr>
            <a:xfrm>
              <a:off x="1077120" y="4583160"/>
              <a:ext cx="114120" cy="44640"/>
              <a:chOff x="1077120" y="4583160"/>
              <a:chExt cx="114120" cy="44640"/>
            </a:xfrm>
          </p:grpSpPr>
          <p:sp>
            <p:nvSpPr>
              <p:cNvPr id="562" name="AutoShape 160"/>
              <p:cNvSpPr/>
              <p:nvPr/>
            </p:nvSpPr>
            <p:spPr>
              <a:xfrm>
                <a:off x="1105560" y="459864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161"/>
              <p:cNvSpPr/>
              <p:nvPr/>
            </p:nvSpPr>
            <p:spPr>
              <a:xfrm>
                <a:off x="1077120" y="458316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4" name="Freeform 162"/>
            <p:cNvSpPr/>
            <p:nvPr/>
          </p:nvSpPr>
          <p:spPr>
            <a:xfrm>
              <a:off x="1180800" y="459396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5" name="Text Box 163"/>
          <p:cNvSpPr/>
          <p:nvPr/>
        </p:nvSpPr>
        <p:spPr>
          <a:xfrm>
            <a:off x="4396320" y="31640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00c8c3"/>
                </a:solidFill>
                <a:latin typeface="Times New Roman"/>
                <a:cs typeface="Times New Roman"/>
              </a:rPr>
              <a:t>العبو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6" name="Group 164"/>
          <p:cNvGrpSpPr/>
          <p:nvPr/>
        </p:nvGrpSpPr>
        <p:grpSpPr>
          <a:xfrm>
            <a:off x="1208160" y="4583160"/>
            <a:ext cx="286920" cy="574560"/>
            <a:chOff x="1208160" y="4583160"/>
            <a:chExt cx="286920" cy="574560"/>
          </a:xfrm>
        </p:grpSpPr>
        <p:sp>
          <p:nvSpPr>
            <p:cNvPr id="567" name="Freeform 165"/>
            <p:cNvSpPr/>
            <p:nvPr/>
          </p:nvSpPr>
          <p:spPr>
            <a:xfrm>
              <a:off x="1208160" y="459576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166"/>
            <p:cNvSpPr/>
            <p:nvPr/>
          </p:nvSpPr>
          <p:spPr>
            <a:xfrm>
              <a:off x="1325880" y="464580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167"/>
            <p:cNvSpPr/>
            <p:nvPr/>
          </p:nvSpPr>
          <p:spPr>
            <a:xfrm>
              <a:off x="1331640" y="466812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168"/>
            <p:cNvSpPr/>
            <p:nvPr/>
          </p:nvSpPr>
          <p:spPr>
            <a:xfrm>
              <a:off x="1341360" y="462564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169"/>
            <p:cNvSpPr/>
            <p:nvPr/>
          </p:nvSpPr>
          <p:spPr>
            <a:xfrm>
              <a:off x="1360440" y="462744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170"/>
            <p:cNvSpPr/>
            <p:nvPr/>
          </p:nvSpPr>
          <p:spPr>
            <a:xfrm>
              <a:off x="1328760" y="465552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71"/>
            <p:cNvSpPr/>
            <p:nvPr/>
          </p:nvSpPr>
          <p:spPr>
            <a:xfrm>
              <a:off x="1360440" y="465480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72"/>
            <p:cNvSpPr/>
            <p:nvPr/>
          </p:nvSpPr>
          <p:spPr>
            <a:xfrm>
              <a:off x="1357920" y="466776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173"/>
            <p:cNvSpPr/>
            <p:nvPr/>
          </p:nvSpPr>
          <p:spPr>
            <a:xfrm>
              <a:off x="1341720" y="466776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174"/>
            <p:cNvSpPr/>
            <p:nvPr/>
          </p:nvSpPr>
          <p:spPr>
            <a:xfrm>
              <a:off x="1328040" y="462636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175"/>
            <p:cNvSpPr/>
            <p:nvPr/>
          </p:nvSpPr>
          <p:spPr>
            <a:xfrm>
              <a:off x="1344240" y="467064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176"/>
            <p:cNvSpPr/>
            <p:nvPr/>
          </p:nvSpPr>
          <p:spPr>
            <a:xfrm>
              <a:off x="1351440" y="468540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177"/>
            <p:cNvSpPr/>
            <p:nvPr/>
          </p:nvSpPr>
          <p:spPr>
            <a:xfrm>
              <a:off x="1329840" y="468612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178"/>
            <p:cNvSpPr/>
            <p:nvPr/>
          </p:nvSpPr>
          <p:spPr>
            <a:xfrm>
              <a:off x="1353240" y="470664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179"/>
            <p:cNvSpPr/>
            <p:nvPr/>
          </p:nvSpPr>
          <p:spPr>
            <a:xfrm>
              <a:off x="1334880" y="471168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180"/>
            <p:cNvSpPr/>
            <p:nvPr/>
          </p:nvSpPr>
          <p:spPr>
            <a:xfrm>
              <a:off x="1470960" y="474624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181"/>
            <p:cNvSpPr/>
            <p:nvPr/>
          </p:nvSpPr>
          <p:spPr>
            <a:xfrm>
              <a:off x="1328760" y="462564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Freeform 182"/>
            <p:cNvSpPr/>
            <p:nvPr/>
          </p:nvSpPr>
          <p:spPr>
            <a:xfrm>
              <a:off x="1343160" y="465624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5" name="Group 183"/>
            <p:cNvGrpSpPr/>
            <p:nvPr/>
          </p:nvGrpSpPr>
          <p:grpSpPr>
            <a:xfrm>
              <a:off x="1293120" y="4583160"/>
              <a:ext cx="114120" cy="44640"/>
              <a:chOff x="1293120" y="4583160"/>
              <a:chExt cx="114120" cy="44640"/>
            </a:xfrm>
          </p:grpSpPr>
          <p:sp>
            <p:nvSpPr>
              <p:cNvPr id="586" name="AutoShape 184"/>
              <p:cNvSpPr/>
              <p:nvPr/>
            </p:nvSpPr>
            <p:spPr>
              <a:xfrm>
                <a:off x="1321560" y="459864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Freeform 185"/>
              <p:cNvSpPr/>
              <p:nvPr/>
            </p:nvSpPr>
            <p:spPr>
              <a:xfrm>
                <a:off x="1293120" y="458316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8" name="Freeform 186"/>
            <p:cNvSpPr/>
            <p:nvPr/>
          </p:nvSpPr>
          <p:spPr>
            <a:xfrm>
              <a:off x="1396800" y="459396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9" name="Group 187"/>
          <p:cNvGrpSpPr/>
          <p:nvPr/>
        </p:nvGrpSpPr>
        <p:grpSpPr>
          <a:xfrm>
            <a:off x="1424160" y="4799160"/>
            <a:ext cx="286920" cy="574560"/>
            <a:chOff x="1424160" y="4799160"/>
            <a:chExt cx="286920" cy="574560"/>
          </a:xfrm>
        </p:grpSpPr>
        <p:sp>
          <p:nvSpPr>
            <p:cNvPr id="590" name="Freeform 188"/>
            <p:cNvSpPr/>
            <p:nvPr/>
          </p:nvSpPr>
          <p:spPr>
            <a:xfrm>
              <a:off x="1424160" y="481176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Freeform 189"/>
            <p:cNvSpPr/>
            <p:nvPr/>
          </p:nvSpPr>
          <p:spPr>
            <a:xfrm>
              <a:off x="1541880" y="486180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Freeform 190"/>
            <p:cNvSpPr/>
            <p:nvPr/>
          </p:nvSpPr>
          <p:spPr>
            <a:xfrm>
              <a:off x="1547640" y="488412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Freeform 191"/>
            <p:cNvSpPr/>
            <p:nvPr/>
          </p:nvSpPr>
          <p:spPr>
            <a:xfrm>
              <a:off x="1557360" y="484164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Freeform 192"/>
            <p:cNvSpPr/>
            <p:nvPr/>
          </p:nvSpPr>
          <p:spPr>
            <a:xfrm>
              <a:off x="1576440" y="484344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193"/>
            <p:cNvSpPr/>
            <p:nvPr/>
          </p:nvSpPr>
          <p:spPr>
            <a:xfrm>
              <a:off x="1544760" y="487152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194"/>
            <p:cNvSpPr/>
            <p:nvPr/>
          </p:nvSpPr>
          <p:spPr>
            <a:xfrm>
              <a:off x="1576440" y="487080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Freeform 195"/>
            <p:cNvSpPr/>
            <p:nvPr/>
          </p:nvSpPr>
          <p:spPr>
            <a:xfrm>
              <a:off x="1573920" y="488376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Freeform 196"/>
            <p:cNvSpPr/>
            <p:nvPr/>
          </p:nvSpPr>
          <p:spPr>
            <a:xfrm>
              <a:off x="1557720" y="488376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Freeform 197"/>
            <p:cNvSpPr/>
            <p:nvPr/>
          </p:nvSpPr>
          <p:spPr>
            <a:xfrm>
              <a:off x="1544040" y="484236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198"/>
            <p:cNvSpPr/>
            <p:nvPr/>
          </p:nvSpPr>
          <p:spPr>
            <a:xfrm>
              <a:off x="1560240" y="488664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Freeform 199"/>
            <p:cNvSpPr/>
            <p:nvPr/>
          </p:nvSpPr>
          <p:spPr>
            <a:xfrm>
              <a:off x="1567440" y="490140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Freeform 200"/>
            <p:cNvSpPr/>
            <p:nvPr/>
          </p:nvSpPr>
          <p:spPr>
            <a:xfrm>
              <a:off x="1545840" y="490212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Freeform 201"/>
            <p:cNvSpPr/>
            <p:nvPr/>
          </p:nvSpPr>
          <p:spPr>
            <a:xfrm>
              <a:off x="1569240" y="492264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Freeform 202"/>
            <p:cNvSpPr/>
            <p:nvPr/>
          </p:nvSpPr>
          <p:spPr>
            <a:xfrm>
              <a:off x="1550880" y="492768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Freeform 203"/>
            <p:cNvSpPr/>
            <p:nvPr/>
          </p:nvSpPr>
          <p:spPr>
            <a:xfrm>
              <a:off x="1686960" y="496224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204"/>
            <p:cNvSpPr/>
            <p:nvPr/>
          </p:nvSpPr>
          <p:spPr>
            <a:xfrm>
              <a:off x="1544760" y="484164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205"/>
            <p:cNvSpPr/>
            <p:nvPr/>
          </p:nvSpPr>
          <p:spPr>
            <a:xfrm>
              <a:off x="1559160" y="487224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8" name="Group 206"/>
            <p:cNvGrpSpPr/>
            <p:nvPr/>
          </p:nvGrpSpPr>
          <p:grpSpPr>
            <a:xfrm>
              <a:off x="1509120" y="4799160"/>
              <a:ext cx="114120" cy="44640"/>
              <a:chOff x="1509120" y="4799160"/>
              <a:chExt cx="114120" cy="44640"/>
            </a:xfrm>
          </p:grpSpPr>
          <p:sp>
            <p:nvSpPr>
              <p:cNvPr id="609" name="AutoShape 207"/>
              <p:cNvSpPr/>
              <p:nvPr/>
            </p:nvSpPr>
            <p:spPr>
              <a:xfrm>
                <a:off x="1537560" y="481464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208"/>
              <p:cNvSpPr/>
              <p:nvPr/>
            </p:nvSpPr>
            <p:spPr>
              <a:xfrm>
                <a:off x="1509120" y="479916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1" name="Freeform 209"/>
            <p:cNvSpPr/>
            <p:nvPr/>
          </p:nvSpPr>
          <p:spPr>
            <a:xfrm>
              <a:off x="1612800" y="480996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2" name="Group 210"/>
          <p:cNvGrpSpPr/>
          <p:nvPr/>
        </p:nvGrpSpPr>
        <p:grpSpPr>
          <a:xfrm>
            <a:off x="1639800" y="5014800"/>
            <a:ext cx="286920" cy="574920"/>
            <a:chOff x="1639800" y="5014800"/>
            <a:chExt cx="286920" cy="574920"/>
          </a:xfrm>
        </p:grpSpPr>
        <p:sp>
          <p:nvSpPr>
            <p:cNvPr id="613" name="Freeform 211"/>
            <p:cNvSpPr/>
            <p:nvPr/>
          </p:nvSpPr>
          <p:spPr>
            <a:xfrm>
              <a:off x="1639800" y="5027400"/>
              <a:ext cx="263520" cy="56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212"/>
            <p:cNvSpPr/>
            <p:nvPr/>
          </p:nvSpPr>
          <p:spPr>
            <a:xfrm>
              <a:off x="1757520" y="507744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213"/>
            <p:cNvSpPr/>
            <p:nvPr/>
          </p:nvSpPr>
          <p:spPr>
            <a:xfrm>
              <a:off x="1763280" y="510012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214"/>
            <p:cNvSpPr/>
            <p:nvPr/>
          </p:nvSpPr>
          <p:spPr>
            <a:xfrm>
              <a:off x="1773000" y="5057280"/>
              <a:ext cx="15480" cy="24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215"/>
            <p:cNvSpPr/>
            <p:nvPr/>
          </p:nvSpPr>
          <p:spPr>
            <a:xfrm>
              <a:off x="1792080" y="505908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216"/>
            <p:cNvSpPr/>
            <p:nvPr/>
          </p:nvSpPr>
          <p:spPr>
            <a:xfrm>
              <a:off x="1760400" y="508716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217"/>
            <p:cNvSpPr/>
            <p:nvPr/>
          </p:nvSpPr>
          <p:spPr>
            <a:xfrm>
              <a:off x="1792080" y="508644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218"/>
            <p:cNvSpPr/>
            <p:nvPr/>
          </p:nvSpPr>
          <p:spPr>
            <a:xfrm>
              <a:off x="1789560" y="509940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Freeform 219"/>
            <p:cNvSpPr/>
            <p:nvPr/>
          </p:nvSpPr>
          <p:spPr>
            <a:xfrm>
              <a:off x="1773360" y="509940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220"/>
            <p:cNvSpPr/>
            <p:nvPr/>
          </p:nvSpPr>
          <p:spPr>
            <a:xfrm>
              <a:off x="1759680" y="505800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Freeform 221"/>
            <p:cNvSpPr/>
            <p:nvPr/>
          </p:nvSpPr>
          <p:spPr>
            <a:xfrm>
              <a:off x="1775880" y="510228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222"/>
            <p:cNvSpPr/>
            <p:nvPr/>
          </p:nvSpPr>
          <p:spPr>
            <a:xfrm>
              <a:off x="1783080" y="511704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223"/>
            <p:cNvSpPr/>
            <p:nvPr/>
          </p:nvSpPr>
          <p:spPr>
            <a:xfrm>
              <a:off x="1761480" y="5117760"/>
              <a:ext cx="1116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Freeform 224"/>
            <p:cNvSpPr/>
            <p:nvPr/>
          </p:nvSpPr>
          <p:spPr>
            <a:xfrm>
              <a:off x="1784880" y="513828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Freeform 225"/>
            <p:cNvSpPr/>
            <p:nvPr/>
          </p:nvSpPr>
          <p:spPr>
            <a:xfrm>
              <a:off x="1766520" y="514332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Freeform 226"/>
            <p:cNvSpPr/>
            <p:nvPr/>
          </p:nvSpPr>
          <p:spPr>
            <a:xfrm>
              <a:off x="1902600" y="517824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227"/>
            <p:cNvSpPr/>
            <p:nvPr/>
          </p:nvSpPr>
          <p:spPr>
            <a:xfrm>
              <a:off x="1760400" y="505728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228"/>
            <p:cNvSpPr/>
            <p:nvPr/>
          </p:nvSpPr>
          <p:spPr>
            <a:xfrm>
              <a:off x="1774800" y="508788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31" name="Group 229"/>
            <p:cNvGrpSpPr/>
            <p:nvPr/>
          </p:nvGrpSpPr>
          <p:grpSpPr>
            <a:xfrm>
              <a:off x="1724760" y="5014800"/>
              <a:ext cx="114120" cy="44640"/>
              <a:chOff x="1724760" y="5014800"/>
              <a:chExt cx="114120" cy="44640"/>
            </a:xfrm>
          </p:grpSpPr>
          <p:sp>
            <p:nvSpPr>
              <p:cNvPr id="632" name="AutoShape 230"/>
              <p:cNvSpPr/>
              <p:nvPr/>
            </p:nvSpPr>
            <p:spPr>
              <a:xfrm>
                <a:off x="1753200" y="503028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231"/>
              <p:cNvSpPr/>
              <p:nvPr/>
            </p:nvSpPr>
            <p:spPr>
              <a:xfrm>
                <a:off x="1724760" y="501480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34" name="Freeform 232"/>
            <p:cNvSpPr/>
            <p:nvPr/>
          </p:nvSpPr>
          <p:spPr>
            <a:xfrm>
              <a:off x="1828440" y="502560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5" name="Group 233"/>
          <p:cNvGrpSpPr/>
          <p:nvPr/>
        </p:nvGrpSpPr>
        <p:grpSpPr>
          <a:xfrm>
            <a:off x="1855800" y="5230800"/>
            <a:ext cx="286920" cy="574560"/>
            <a:chOff x="1855800" y="5230800"/>
            <a:chExt cx="286920" cy="574560"/>
          </a:xfrm>
        </p:grpSpPr>
        <p:sp>
          <p:nvSpPr>
            <p:cNvPr id="636" name="Freeform 234"/>
            <p:cNvSpPr/>
            <p:nvPr/>
          </p:nvSpPr>
          <p:spPr>
            <a:xfrm>
              <a:off x="1855800" y="524340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Freeform 235"/>
            <p:cNvSpPr/>
            <p:nvPr/>
          </p:nvSpPr>
          <p:spPr>
            <a:xfrm>
              <a:off x="1973520" y="529344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Freeform 236"/>
            <p:cNvSpPr/>
            <p:nvPr/>
          </p:nvSpPr>
          <p:spPr>
            <a:xfrm>
              <a:off x="1979280" y="531576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Freeform 237"/>
            <p:cNvSpPr/>
            <p:nvPr/>
          </p:nvSpPr>
          <p:spPr>
            <a:xfrm>
              <a:off x="1989000" y="527328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Freeform 238"/>
            <p:cNvSpPr/>
            <p:nvPr/>
          </p:nvSpPr>
          <p:spPr>
            <a:xfrm>
              <a:off x="2008080" y="527508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239"/>
            <p:cNvSpPr/>
            <p:nvPr/>
          </p:nvSpPr>
          <p:spPr>
            <a:xfrm>
              <a:off x="1976400" y="530316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240"/>
            <p:cNvSpPr/>
            <p:nvPr/>
          </p:nvSpPr>
          <p:spPr>
            <a:xfrm>
              <a:off x="2008080" y="530244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241"/>
            <p:cNvSpPr/>
            <p:nvPr/>
          </p:nvSpPr>
          <p:spPr>
            <a:xfrm>
              <a:off x="2005560" y="531540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Freeform 242"/>
            <p:cNvSpPr/>
            <p:nvPr/>
          </p:nvSpPr>
          <p:spPr>
            <a:xfrm>
              <a:off x="1989360" y="531540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Freeform 243"/>
            <p:cNvSpPr/>
            <p:nvPr/>
          </p:nvSpPr>
          <p:spPr>
            <a:xfrm>
              <a:off x="1975680" y="527400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Freeform 244"/>
            <p:cNvSpPr/>
            <p:nvPr/>
          </p:nvSpPr>
          <p:spPr>
            <a:xfrm>
              <a:off x="1991880" y="531828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Freeform 245"/>
            <p:cNvSpPr/>
            <p:nvPr/>
          </p:nvSpPr>
          <p:spPr>
            <a:xfrm>
              <a:off x="1999080" y="533304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246"/>
            <p:cNvSpPr/>
            <p:nvPr/>
          </p:nvSpPr>
          <p:spPr>
            <a:xfrm>
              <a:off x="1977480" y="533376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247"/>
            <p:cNvSpPr/>
            <p:nvPr/>
          </p:nvSpPr>
          <p:spPr>
            <a:xfrm>
              <a:off x="2000880" y="535428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248"/>
            <p:cNvSpPr/>
            <p:nvPr/>
          </p:nvSpPr>
          <p:spPr>
            <a:xfrm>
              <a:off x="1982520" y="535932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249"/>
            <p:cNvSpPr/>
            <p:nvPr/>
          </p:nvSpPr>
          <p:spPr>
            <a:xfrm>
              <a:off x="2118600" y="539388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250"/>
            <p:cNvSpPr/>
            <p:nvPr/>
          </p:nvSpPr>
          <p:spPr>
            <a:xfrm>
              <a:off x="1976400" y="527328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Freeform 251"/>
            <p:cNvSpPr/>
            <p:nvPr/>
          </p:nvSpPr>
          <p:spPr>
            <a:xfrm>
              <a:off x="1990800" y="530388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54" name="Group 252"/>
            <p:cNvGrpSpPr/>
            <p:nvPr/>
          </p:nvGrpSpPr>
          <p:grpSpPr>
            <a:xfrm>
              <a:off x="1940760" y="5230800"/>
              <a:ext cx="114120" cy="44640"/>
              <a:chOff x="1940760" y="5230800"/>
              <a:chExt cx="114120" cy="44640"/>
            </a:xfrm>
          </p:grpSpPr>
          <p:sp>
            <p:nvSpPr>
              <p:cNvPr id="655" name="AutoShape 253"/>
              <p:cNvSpPr/>
              <p:nvPr/>
            </p:nvSpPr>
            <p:spPr>
              <a:xfrm>
                <a:off x="1969200" y="524628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Freeform 254"/>
              <p:cNvSpPr/>
              <p:nvPr/>
            </p:nvSpPr>
            <p:spPr>
              <a:xfrm>
                <a:off x="1940760" y="523080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57" name="Freeform 255"/>
            <p:cNvSpPr/>
            <p:nvPr/>
          </p:nvSpPr>
          <p:spPr>
            <a:xfrm>
              <a:off x="2044440" y="524160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8" name="Text Box 256"/>
          <p:cNvSpPr/>
          <p:nvPr/>
        </p:nvSpPr>
        <p:spPr>
          <a:xfrm rot="16200000">
            <a:off x="4829760" y="39092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سنة الثالث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Freeform 257"/>
          <p:cNvSpPr/>
          <p:nvPr/>
        </p:nvSpPr>
        <p:spPr>
          <a:xfrm>
            <a:off x="1187280" y="4444920"/>
            <a:ext cx="5291280" cy="1604880"/>
          </a:xfrm>
          <a:prstGeom prst="pie">
            <a:avLst/>
          </a:prstGeom>
          <a:noFill/>
          <a:ln w="12600">
            <a:solidFill>
              <a:srgbClr val="3b3b3b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258"/>
          <p:cNvSpPr/>
          <p:nvPr/>
        </p:nvSpPr>
        <p:spPr>
          <a:xfrm>
            <a:off x="6931440" y="58402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ي حضر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259"/>
          <p:cNvSpPr/>
          <p:nvPr/>
        </p:nvSpPr>
        <p:spPr>
          <a:xfrm>
            <a:off x="717480" y="367020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</a:t>
            </a:r>
            <a:r>
              <a:rPr b="0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ذ</a:t>
            </a:r>
            <a:r>
              <a:rPr b="0" lang="ar-DZ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 مشترك</a:t>
            </a:r>
            <a:r>
              <a:rPr b="0" lang="ar-D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2" name="Group 260"/>
          <p:cNvGrpSpPr/>
          <p:nvPr/>
        </p:nvGrpSpPr>
        <p:grpSpPr>
          <a:xfrm>
            <a:off x="971640" y="4176720"/>
            <a:ext cx="286920" cy="574560"/>
            <a:chOff x="971640" y="4176720"/>
            <a:chExt cx="286920" cy="574560"/>
          </a:xfrm>
        </p:grpSpPr>
        <p:sp>
          <p:nvSpPr>
            <p:cNvPr id="663" name="Freeform 261"/>
            <p:cNvSpPr/>
            <p:nvPr/>
          </p:nvSpPr>
          <p:spPr>
            <a:xfrm>
              <a:off x="971640" y="4189320"/>
              <a:ext cx="26352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262"/>
            <p:cNvSpPr/>
            <p:nvPr/>
          </p:nvSpPr>
          <p:spPr>
            <a:xfrm>
              <a:off x="1089360" y="4239360"/>
              <a:ext cx="49320" cy="4068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263"/>
            <p:cNvSpPr/>
            <p:nvPr/>
          </p:nvSpPr>
          <p:spPr>
            <a:xfrm>
              <a:off x="1095120" y="4261680"/>
              <a:ext cx="6120" cy="133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264"/>
            <p:cNvSpPr/>
            <p:nvPr/>
          </p:nvSpPr>
          <p:spPr>
            <a:xfrm>
              <a:off x="1104840" y="4219200"/>
              <a:ext cx="15480" cy="2412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Freeform 265"/>
            <p:cNvSpPr/>
            <p:nvPr/>
          </p:nvSpPr>
          <p:spPr>
            <a:xfrm>
              <a:off x="1123920" y="4221000"/>
              <a:ext cx="10080" cy="255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Freeform 266"/>
            <p:cNvSpPr/>
            <p:nvPr/>
          </p:nvSpPr>
          <p:spPr>
            <a:xfrm>
              <a:off x="1092240" y="4249080"/>
              <a:ext cx="8640" cy="1116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267"/>
            <p:cNvSpPr/>
            <p:nvPr/>
          </p:nvSpPr>
          <p:spPr>
            <a:xfrm>
              <a:off x="1123920" y="4248360"/>
              <a:ext cx="9360" cy="972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268"/>
            <p:cNvSpPr/>
            <p:nvPr/>
          </p:nvSpPr>
          <p:spPr>
            <a:xfrm>
              <a:off x="1121400" y="4261320"/>
              <a:ext cx="1008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269"/>
            <p:cNvSpPr/>
            <p:nvPr/>
          </p:nvSpPr>
          <p:spPr>
            <a:xfrm>
              <a:off x="1105200" y="4261320"/>
              <a:ext cx="13320" cy="1548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Freeform 270"/>
            <p:cNvSpPr/>
            <p:nvPr/>
          </p:nvSpPr>
          <p:spPr>
            <a:xfrm>
              <a:off x="1091520" y="4219920"/>
              <a:ext cx="10080" cy="2664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271"/>
            <p:cNvSpPr/>
            <p:nvPr/>
          </p:nvSpPr>
          <p:spPr>
            <a:xfrm>
              <a:off x="1107720" y="4264200"/>
              <a:ext cx="10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Freeform 272"/>
            <p:cNvSpPr/>
            <p:nvPr/>
          </p:nvSpPr>
          <p:spPr>
            <a:xfrm>
              <a:off x="1114920" y="4278960"/>
              <a:ext cx="18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Freeform 273"/>
            <p:cNvSpPr/>
            <p:nvPr/>
          </p:nvSpPr>
          <p:spPr>
            <a:xfrm>
              <a:off x="1093320" y="4279680"/>
              <a:ext cx="111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Freeform 274"/>
            <p:cNvSpPr/>
            <p:nvPr/>
          </p:nvSpPr>
          <p:spPr>
            <a:xfrm>
              <a:off x="1116720" y="4300200"/>
              <a:ext cx="576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Freeform 275"/>
            <p:cNvSpPr/>
            <p:nvPr/>
          </p:nvSpPr>
          <p:spPr>
            <a:xfrm>
              <a:off x="1098360" y="4305240"/>
              <a:ext cx="504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Freeform 276"/>
            <p:cNvSpPr/>
            <p:nvPr/>
          </p:nvSpPr>
          <p:spPr>
            <a:xfrm>
              <a:off x="1234440" y="4339800"/>
              <a:ext cx="24120" cy="3924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Freeform 277"/>
            <p:cNvSpPr/>
            <p:nvPr/>
          </p:nvSpPr>
          <p:spPr>
            <a:xfrm>
              <a:off x="1092240" y="4219200"/>
              <a:ext cx="40680" cy="15840"/>
            </a:xfrm>
            <a:prstGeom prst="pie">
              <a:avLst/>
            </a:prstGeom>
            <a:solidFill>
              <a:srgbClr val="cb8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Freeform 278"/>
            <p:cNvSpPr/>
            <p:nvPr/>
          </p:nvSpPr>
          <p:spPr>
            <a:xfrm>
              <a:off x="1106640" y="4249800"/>
              <a:ext cx="10440" cy="756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81" name="Group 279"/>
            <p:cNvGrpSpPr/>
            <p:nvPr/>
          </p:nvGrpSpPr>
          <p:grpSpPr>
            <a:xfrm>
              <a:off x="1056600" y="4176720"/>
              <a:ext cx="114120" cy="44640"/>
              <a:chOff x="1056600" y="4176720"/>
              <a:chExt cx="114120" cy="44640"/>
            </a:xfrm>
          </p:grpSpPr>
          <p:sp>
            <p:nvSpPr>
              <p:cNvPr id="682" name="AutoShape 280"/>
              <p:cNvSpPr/>
              <p:nvPr/>
            </p:nvSpPr>
            <p:spPr>
              <a:xfrm>
                <a:off x="1085040" y="4192200"/>
                <a:ext cx="56880" cy="29160"/>
              </a:xfrm>
              <a:prstGeom prst="can">
                <a:avLst>
                  <a:gd name="adj" fmla="val 25000"/>
                </a:avLst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3" name="Freeform 281"/>
              <p:cNvSpPr/>
              <p:nvPr/>
            </p:nvSpPr>
            <p:spPr>
              <a:xfrm>
                <a:off x="1056600" y="4176720"/>
                <a:ext cx="114120" cy="29160"/>
              </a:xfrm>
              <a:prstGeom prst="pie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84" name="Freeform 282"/>
            <p:cNvSpPr/>
            <p:nvPr/>
          </p:nvSpPr>
          <p:spPr>
            <a:xfrm>
              <a:off x="1160280" y="4187520"/>
              <a:ext cx="15120" cy="482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5" name="Text Box 283"/>
          <p:cNvSpPr/>
          <p:nvPr/>
        </p:nvSpPr>
        <p:spPr>
          <a:xfrm rot="1951800">
            <a:off x="2189880" y="50072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00"/>
                </a:solidFill>
                <a:latin typeface="Times New Roman"/>
                <a:cs typeface="Times New Roman"/>
              </a:rPr>
              <a:t>السنة الثانية</a:t>
            </a:r>
            <a:r>
              <a:rPr b="0" lang="ar-DZ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مهني</a:t>
            </a:r>
            <a:r>
              <a:rPr b="0" lang="ar-DZ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Text Box 284"/>
          <p:cNvSpPr/>
          <p:nvPr/>
        </p:nvSpPr>
        <p:spPr>
          <a:xfrm rot="574800">
            <a:off x="4491000" y="58338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00"/>
                </a:solidFill>
                <a:latin typeface="Times New Roman"/>
                <a:cs typeface="Times New Roman"/>
              </a:rPr>
              <a:t>السنة الثالث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Text Box 285"/>
          <p:cNvSpPr/>
          <p:nvPr/>
        </p:nvSpPr>
        <p:spPr>
          <a:xfrm>
            <a:off x="7044120" y="41958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هرو تقني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286"/>
          <p:cNvSpPr/>
          <p:nvPr/>
        </p:nvSpPr>
        <p:spPr>
          <a:xfrm>
            <a:off x="6811920" y="4508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ندسة طرائ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Text Box 287"/>
          <p:cNvSpPr/>
          <p:nvPr/>
        </p:nvSpPr>
        <p:spPr>
          <a:xfrm>
            <a:off x="6049800" y="486900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تصالات سلكية والا سلكية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Line 291"/>
          <p:cNvSpPr/>
          <p:nvPr/>
        </p:nvSpPr>
        <p:spPr>
          <a:xfrm>
            <a:off x="5033880" y="4129200"/>
            <a:ext cx="1409760" cy="23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Line 292"/>
          <p:cNvSpPr/>
          <p:nvPr/>
        </p:nvSpPr>
        <p:spPr>
          <a:xfrm flipV="1">
            <a:off x="5003640" y="3715920"/>
            <a:ext cx="144000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Line 293"/>
          <p:cNvSpPr/>
          <p:nvPr/>
        </p:nvSpPr>
        <p:spPr>
          <a:xfrm>
            <a:off x="5003640" y="4149720"/>
            <a:ext cx="1440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Line 294"/>
          <p:cNvSpPr/>
          <p:nvPr/>
        </p:nvSpPr>
        <p:spPr>
          <a:xfrm>
            <a:off x="576360" y="1341360"/>
            <a:ext cx="7812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4993E-006 L 0.1684 -4.04993E-006 L 0.39514 -0.05594 L 0.59115 -0.14794 E">
                                      <p:cBhvr>
                                        <p:cTn id="347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0.1684 1.48148E-006 L 0.39514 -0.05579 L 0.59184 -0.05556 E">
                                      <p:cBhvr>
                                        <p:cTn id="352" dur="5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324 L 0.1684 0.00324 L 0.39514 -0.05255 L 0.5934 0.06111 E">
                                      <p:cBhvr>
                                        <p:cTn id="357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11604E-006 L 0.16841 -3.11604E-006 L 0.39098 0.1914 L 0.59514 0.23394 E">
                                      <p:cBhvr>
                                        <p:cTn id="362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3 0.02149 L 0.52726 0.03929 L 0.48021 0.02404 L 0.4375 0.00716 L 0.39931 -0.0467 L 0.39844 -0.09085 L 0.56059 -0.19742 E">
                                      <p:cBhvr>
                                        <p:cTn id="378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47 -0.00115 L 0.52726 0.01364 L 0.48229 -0.01017 L 0.43334 -0.02727 L 0.39497 -0.08668 L 0.39618 -0.11951 L 0.55174 -0.1165 E">
                                      <p:cBhvr>
                                        <p:cTn id="384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23 -0.11859 L 0.51267 -0.13638 L 0.46597 -0.15696 L 0.41042 -0.14216 L 0.37934 -0.11859 L 0.45052 -0.0742 L 0.53264 0.02057 E">
                                      <p:cBhvr>
                                        <p:cTn id="390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386 -0.24027 L 0.4849 -0.24166 L 0.43907 -0.24027 L 0.39948 -0.22361 L 0.37448 -0.2 L 0.36303 -0.17916 L 0.36632 -0.14606 L 0.52448 -0.0125 E">
                                      <p:cBhvr>
                                        <p:cTn id="396" dur="5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61 -0.27362 L 0.4717 -0.27269 L 0.42725 -0.27269 L 0.3835 -0.25417 L 0.34947 -0.22362 L 0.3342 -0.19676 L 0.35017 -0.17824 L 0.49809 -0.18195 E">
                                      <p:cBhvr>
                                        <p:cTn id="402" dur="5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5 -0.21343 L 0.45711 -0.19769 L 0.42309 -0.18287 L 0.396 -0.16991 L 0.34184 -0.15417 L 0.31198 -0.1875 L 0.31059 -0.22084 L 0.48211 -0.30324 E">
                                      <p:cBhvr>
                                        <p:cTn id="408" dur="5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4"/>
          <p:cNvSpPr/>
          <p:nvPr/>
        </p:nvSpPr>
        <p:spPr>
          <a:xfrm>
            <a:off x="-103320" y="654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ماستر الاكاديمي والماستر المهني وهي مرحلة بعد التدرج أي  الليسانس+سنتين مجموع الارصدة المحصل عليها 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120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رصي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-1260360" y="19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ا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ذا يمثل الماستر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AutoShape 8"/>
          <p:cNvSpPr/>
          <p:nvPr/>
        </p:nvSpPr>
        <p:spPr>
          <a:xfrm rot="10800000">
            <a:off x="8100720" y="2550960"/>
            <a:ext cx="718920" cy="587520"/>
          </a:xfrm>
          <a:prstGeom prst="pie">
            <a:avLst/>
          </a:prstGeom>
          <a:solidFill>
            <a:srgbClr val="ffffff"/>
          </a:solidFill>
          <a:ln w="19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-1116000" y="24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دليل النجاعة في المؤسسة ال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AutoShape 10"/>
          <p:cNvSpPr/>
          <p:nvPr/>
        </p:nvSpPr>
        <p:spPr>
          <a:xfrm rot="10800000">
            <a:off x="8100720" y="3200400"/>
            <a:ext cx="718920" cy="587520"/>
          </a:xfrm>
          <a:prstGeom prst="pie">
            <a:avLst/>
          </a:prstGeom>
          <a:solidFill>
            <a:srgbClr val="ffffff"/>
          </a:solidFill>
          <a:ln w="19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-1116000" y="31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يدرس في سنتين (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4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سداسات تمثل 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120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رصي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AutoShape 12"/>
          <p:cNvSpPr/>
          <p:nvPr/>
        </p:nvSpPr>
        <p:spPr>
          <a:xfrm rot="10800000">
            <a:off x="8089920" y="3848040"/>
            <a:ext cx="719280" cy="587520"/>
          </a:xfrm>
          <a:prstGeom prst="pie">
            <a:avLst/>
          </a:prstGeom>
          <a:solidFill>
            <a:srgbClr val="ffffff"/>
          </a:solidFill>
          <a:ln w="19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395280" y="3789360"/>
            <a:ext cx="762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تاحة لطلبة الليسانس الاكاديمي ( يوجد بعض الشروط يجب ان تتحق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AutoShape 14"/>
          <p:cNvSpPr/>
          <p:nvPr/>
        </p:nvSpPr>
        <p:spPr>
          <a:xfrm rot="10800000">
            <a:off x="8100720" y="4895640"/>
            <a:ext cx="718920" cy="587160"/>
          </a:xfrm>
          <a:prstGeom prst="pie">
            <a:avLst/>
          </a:prstGeom>
          <a:solidFill>
            <a:srgbClr val="ffffff"/>
          </a:solidFill>
          <a:ln w="19080">
            <a:solidFill>
              <a:srgbClr val="cca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900000" y="486900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تاحة لطلبة الليسانس المهني ( بعد مدة يقضيها الطالب في الحياة المهني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4" name="Group 18"/>
          <p:cNvGrpSpPr/>
          <p:nvPr/>
        </p:nvGrpSpPr>
        <p:grpSpPr>
          <a:xfrm>
            <a:off x="1763640" y="6237360"/>
            <a:ext cx="5595840" cy="1433520"/>
            <a:chOff x="1763640" y="6237360"/>
            <a:chExt cx="5595840" cy="1433520"/>
          </a:xfrm>
        </p:grpSpPr>
        <p:sp>
          <p:nvSpPr>
            <p:cNvPr id="705" name="Line 19"/>
            <p:cNvSpPr/>
            <p:nvPr/>
          </p:nvSpPr>
          <p:spPr>
            <a:xfrm>
              <a:off x="4571640" y="623736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Line 20"/>
            <p:cNvSpPr/>
            <p:nvPr/>
          </p:nvSpPr>
          <p:spPr>
            <a:xfrm flipV="1">
              <a:off x="1763640" y="6669000"/>
              <a:ext cx="5595840" cy="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Line 21"/>
            <p:cNvSpPr/>
            <p:nvPr/>
          </p:nvSpPr>
          <p:spPr>
            <a:xfrm>
              <a:off x="1763640" y="6689880"/>
              <a:ext cx="0" cy="981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Line 22"/>
            <p:cNvSpPr/>
            <p:nvPr/>
          </p:nvSpPr>
          <p:spPr>
            <a:xfrm>
              <a:off x="7348320" y="6669360"/>
              <a:ext cx="0" cy="981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9" name="Line 23"/>
          <p:cNvSpPr/>
          <p:nvPr/>
        </p:nvSpPr>
        <p:spPr>
          <a:xfrm>
            <a:off x="1258920" y="1844640"/>
            <a:ext cx="6661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3"/>
          <p:cNvGrpSpPr/>
          <p:nvPr/>
        </p:nvGrpSpPr>
        <p:grpSpPr>
          <a:xfrm>
            <a:off x="1979640" y="-27000"/>
            <a:ext cx="5113440" cy="719280"/>
            <a:chOff x="1979640" y="-27000"/>
            <a:chExt cx="5113440" cy="719280"/>
          </a:xfrm>
        </p:grpSpPr>
        <p:sp>
          <p:nvSpPr>
            <p:cNvPr id="711" name="Line 2"/>
            <p:cNvSpPr/>
            <p:nvPr/>
          </p:nvSpPr>
          <p:spPr>
            <a:xfrm>
              <a:off x="7093080" y="0"/>
              <a:ext cx="0" cy="69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Line 3"/>
            <p:cNvSpPr/>
            <p:nvPr/>
          </p:nvSpPr>
          <p:spPr>
            <a:xfrm>
              <a:off x="1979640" y="-27000"/>
              <a:ext cx="0" cy="69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3" name="Text Box 7"/>
          <p:cNvSpPr/>
          <p:nvPr/>
        </p:nvSpPr>
        <p:spPr>
          <a:xfrm>
            <a:off x="4643280" y="2665440"/>
            <a:ext cx="3808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تحضير للتدريس في الجامع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4427640" y="4581360"/>
            <a:ext cx="4024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تحضير للبحث العلمي في القطاع الاقتصادي أو الجامع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5" name="Group 24"/>
          <p:cNvGrpSpPr/>
          <p:nvPr/>
        </p:nvGrpSpPr>
        <p:grpSpPr>
          <a:xfrm>
            <a:off x="250920" y="744480"/>
            <a:ext cx="8893080" cy="4341960"/>
            <a:chOff x="250920" y="744480"/>
            <a:chExt cx="8893080" cy="4341960"/>
          </a:xfrm>
        </p:grpSpPr>
        <p:sp>
          <p:nvSpPr>
            <p:cNvPr id="716" name="Text Box 4"/>
            <p:cNvSpPr/>
            <p:nvPr/>
          </p:nvSpPr>
          <p:spPr>
            <a:xfrm>
              <a:off x="5354640" y="77940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cs typeface="Traditional Arabic"/>
                </a:rPr>
                <a:t>الماستر الاكاديمي</a:t>
              </a: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ea typeface="Traditional Arabic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Text Box 5"/>
            <p:cNvSpPr/>
            <p:nvPr/>
          </p:nvSpPr>
          <p:spPr>
            <a:xfrm>
              <a:off x="250920" y="744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cs typeface="Traditional Arabic"/>
                </a:rPr>
                <a:t>الماستر المهني</a:t>
              </a:r>
              <a:r>
                <a:rPr b="1" lang="ar-DZ" sz="3600" spc="-1" strike="noStrike">
                  <a:solidFill>
                    <a:srgbClr val="ffffff"/>
                  </a:solidFill>
                  <a:latin typeface="Tahoma"/>
                  <a:ea typeface="Arabic Transparent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AutoShape 6"/>
            <p:cNvSpPr/>
            <p:nvPr/>
          </p:nvSpPr>
          <p:spPr>
            <a:xfrm>
              <a:off x="8534520" y="2809800"/>
              <a:ext cx="574560" cy="360360"/>
            </a:xfrm>
            <a:prstGeom prst="leftArrow">
              <a:avLst>
                <a:gd name="adj1" fmla="val 50000"/>
                <a:gd name="adj2" fmla="val 39860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AutoShape 8"/>
            <p:cNvSpPr/>
            <p:nvPr/>
          </p:nvSpPr>
          <p:spPr>
            <a:xfrm>
              <a:off x="8534520" y="4726080"/>
              <a:ext cx="574560" cy="360360"/>
            </a:xfrm>
            <a:prstGeom prst="leftArrow">
              <a:avLst>
                <a:gd name="adj1" fmla="val 50000"/>
                <a:gd name="adj2" fmla="val 39860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AutoShape 10"/>
            <p:cNvSpPr/>
            <p:nvPr/>
          </p:nvSpPr>
          <p:spPr>
            <a:xfrm>
              <a:off x="3925800" y="280188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AutoShape 12"/>
            <p:cNvSpPr/>
            <p:nvPr/>
          </p:nvSpPr>
          <p:spPr>
            <a:xfrm>
              <a:off x="3925800" y="4724280"/>
              <a:ext cx="574920" cy="360360"/>
            </a:xfrm>
            <a:prstGeom prst="leftArrow">
              <a:avLst>
                <a:gd name="adj1" fmla="val 50000"/>
                <a:gd name="adj2" fmla="val 39885"/>
              </a:avLst>
            </a:prstGeom>
            <a:solidFill>
              <a:srgbClr val="ffffff"/>
            </a:solidFill>
            <a:ln w="19080">
              <a:solidFill>
                <a:srgbClr val="ccaf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22" name="Group 14"/>
            <p:cNvGrpSpPr/>
            <p:nvPr/>
          </p:nvGrpSpPr>
          <p:grpSpPr>
            <a:xfrm>
              <a:off x="900000" y="1285920"/>
              <a:ext cx="3600720" cy="3690360"/>
              <a:chOff x="900000" y="1285920"/>
              <a:chExt cx="3600720" cy="3690360"/>
            </a:xfrm>
          </p:grpSpPr>
          <p:grpSp>
            <p:nvGrpSpPr>
              <p:cNvPr id="723" name="Line 15"/>
              <p:cNvGrpSpPr/>
              <p:nvPr/>
            </p:nvGrpSpPr>
            <p:grpSpPr>
              <a:xfrm>
                <a:off x="900000" y="1285920"/>
                <a:ext cx="3600720" cy="165240"/>
                <a:chOff x="900000" y="1285920"/>
                <a:chExt cx="3600720" cy="165240"/>
              </a:xfrm>
            </p:grpSpPr>
            <p:pic>
              <p:nvPicPr>
                <p:cNvPr id="724" name="Lin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00000" y="1285920"/>
                  <a:ext cx="3600720" cy="16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"/>
                <p:cNvSpPr/>
                <p:nvPr/>
              </p:nvSpPr>
              <p:spPr>
                <a:xfrm>
                  <a:off x="968040" y="13654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6" name="Line 16"/>
              <p:cNvGrpSpPr/>
              <p:nvPr/>
            </p:nvGrpSpPr>
            <p:grpSpPr>
              <a:xfrm>
                <a:off x="4277880" y="1418400"/>
                <a:ext cx="168840" cy="3557880"/>
                <a:chOff x="4277880" y="1418400"/>
                <a:chExt cx="168840" cy="3557880"/>
              </a:xfrm>
            </p:grpSpPr>
            <p:pic>
              <p:nvPicPr>
                <p:cNvPr id="727" name="Lin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77880" y="1418400"/>
                  <a:ext cx="168840" cy="3557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8" name=""/>
                <p:cNvSpPr/>
                <p:nvPr/>
              </p:nvSpPr>
              <p:spPr>
                <a:xfrm>
                  <a:off x="4359960" y="14871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29" name="Group 17"/>
            <p:cNvGrpSpPr/>
            <p:nvPr/>
          </p:nvGrpSpPr>
          <p:grpSpPr>
            <a:xfrm>
              <a:off x="5508720" y="1341360"/>
              <a:ext cx="3635280" cy="3634920"/>
              <a:chOff x="5508720" y="1341360"/>
              <a:chExt cx="3635280" cy="3634920"/>
            </a:xfrm>
          </p:grpSpPr>
          <p:grpSp>
            <p:nvGrpSpPr>
              <p:cNvPr id="730" name="Line 18"/>
              <p:cNvGrpSpPr/>
              <p:nvPr/>
            </p:nvGrpSpPr>
            <p:grpSpPr>
              <a:xfrm>
                <a:off x="5508720" y="1341360"/>
                <a:ext cx="3635280" cy="165600"/>
                <a:chOff x="5508720" y="1341360"/>
                <a:chExt cx="3635280" cy="165600"/>
              </a:xfrm>
            </p:grpSpPr>
            <p:pic>
              <p:nvPicPr>
                <p:cNvPr id="731" name="Lin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08720" y="1341360"/>
                  <a:ext cx="3635280" cy="16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2" name=""/>
                <p:cNvSpPr/>
                <p:nvPr/>
              </p:nvSpPr>
              <p:spPr>
                <a:xfrm>
                  <a:off x="5577480" y="1420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33" name="Line 19"/>
              <p:cNvGrpSpPr/>
              <p:nvPr/>
            </p:nvGrpSpPr>
            <p:grpSpPr>
              <a:xfrm>
                <a:off x="8948520" y="1409760"/>
                <a:ext cx="170640" cy="3566520"/>
                <a:chOff x="8948520" y="1409760"/>
                <a:chExt cx="170640" cy="3566520"/>
              </a:xfrm>
            </p:grpSpPr>
            <p:pic>
              <p:nvPicPr>
                <p:cNvPr id="734" name="Lin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948520" y="1409760"/>
                  <a:ext cx="170640" cy="356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5" name=""/>
                <p:cNvSpPr/>
                <p:nvPr/>
              </p:nvSpPr>
              <p:spPr>
                <a:xfrm>
                  <a:off x="9030960" y="14788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36" name="Text Box 20"/>
          <p:cNvSpPr/>
          <p:nvPr/>
        </p:nvSpPr>
        <p:spPr>
          <a:xfrm>
            <a:off x="324000" y="2637000"/>
            <a:ext cx="3592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كسب تخصص جيد في القطاعات المهن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108000" y="4552920"/>
            <a:ext cx="4024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دخول الى مستوى ناجع والى الكفاءة الجد عال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4920" y="654120"/>
            <a:ext cx="69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66ff33"/>
                </a:solidFill>
                <a:latin typeface="Tahoma"/>
                <a:cs typeface="Traditional Arabic"/>
              </a:rPr>
              <a:t>الدكتوراه  الاكاديمية (الماسترالاكاديمي +</a:t>
            </a:r>
            <a:r>
              <a:rPr b="1" lang="ar-DZ" sz="3600" spc="-1" strike="noStrike">
                <a:solidFill>
                  <a:srgbClr val="66ff33"/>
                </a:solidFill>
                <a:latin typeface="Tahoma"/>
                <a:ea typeface="Traditional Arabic"/>
              </a:rPr>
              <a:t>3</a:t>
            </a:r>
            <a:r>
              <a:rPr b="1" lang="ar-DZ" sz="3600" spc="-1" strike="noStrike">
                <a:solidFill>
                  <a:srgbClr val="66ff33"/>
                </a:solidFill>
                <a:latin typeface="Tahoma"/>
                <a:cs typeface="Traditional Arabic"/>
              </a:rPr>
              <a:t>سنوات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6"/>
          <p:cNvSpPr/>
          <p:nvPr/>
        </p:nvSpPr>
        <p:spPr>
          <a:xfrm>
            <a:off x="1042920" y="1325520"/>
            <a:ext cx="666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-71280" y="1500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دة التكوين هي ثلاث سنوات </a:t>
            </a:r>
            <a:r>
              <a:rPr b="1" lang="ar-DZ" sz="2400" spc="-1" strike="noStrike">
                <a:solidFill>
                  <a:srgbClr val="ffffff"/>
                </a:solidFill>
                <a:latin typeface="Tahoma"/>
                <a:ea typeface="Traditional Arabic"/>
              </a:rPr>
              <a:t>(</a:t>
            </a:r>
            <a:r>
              <a:rPr b="1" lang="ar-DZ" sz="2400" spc="-1" strike="noStrike">
                <a:solidFill>
                  <a:srgbClr val="ffffff"/>
                </a:solidFill>
                <a:latin typeface="Tahoma"/>
                <a:ea typeface="Traditional Arabic"/>
              </a:rPr>
              <a:t>6</a:t>
            </a:r>
            <a:r>
              <a:rPr b="1" lang="ar-DZ" sz="2400" spc="-1" strike="noStrike">
                <a:solidFill>
                  <a:srgbClr val="ffffff"/>
                </a:solidFill>
                <a:latin typeface="Tahoma"/>
                <a:cs typeface="Traditional Arabic"/>
              </a:rPr>
              <a:t>سداسيات) 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مجموع أرصدتها =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180</a:t>
            </a:r>
            <a:r>
              <a:rPr b="1" lang="ar-DZ" sz="3600" spc="-1" strike="noStrike">
                <a:solidFill>
                  <a:srgbClr val="ffffff"/>
                </a:solidFill>
                <a:latin typeface="Tahoma"/>
                <a:ea typeface="Traditional Arabic"/>
              </a:rPr>
              <a:t> رصي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-665280" y="2924280"/>
            <a:ext cx="69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التعمق في معارف الاختصا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-684360" y="3591000"/>
            <a:ext cx="69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كوين بواسطة البحث ولاجل البحث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-681120" y="4273560"/>
            <a:ext cx="69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طوير الكفاءات للبحث والعمل في فري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-357120" y="50720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تم المصادقة على دبلوم الدكتوراه بعد إلقاء أطروحة الدكتورا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5" name="AutoShape 12"/>
          <p:cNvGrpSpPr/>
          <p:nvPr/>
        </p:nvGrpSpPr>
        <p:grpSpPr>
          <a:xfrm>
            <a:off x="6284880" y="2889360"/>
            <a:ext cx="890640" cy="761760"/>
            <a:chOff x="6284880" y="2889360"/>
            <a:chExt cx="890640" cy="761760"/>
          </a:xfrm>
        </p:grpSpPr>
        <p:pic>
          <p:nvPicPr>
            <p:cNvPr id="746" name="AutoShape 12" descr=""/>
            <p:cNvPicPr/>
            <p:nvPr/>
          </p:nvPicPr>
          <p:blipFill>
            <a:blip r:embed="rId1"/>
            <a:stretch/>
          </p:blipFill>
          <p:spPr>
            <a:xfrm>
              <a:off x="6284880" y="2889360"/>
              <a:ext cx="8906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0800000">
              <a:off x="6462360" y="3124080"/>
              <a:ext cx="5158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AutoShape 14"/>
          <p:cNvGrpSpPr/>
          <p:nvPr/>
        </p:nvGrpSpPr>
        <p:grpSpPr>
          <a:xfrm>
            <a:off x="6284880" y="3541680"/>
            <a:ext cx="890640" cy="755640"/>
            <a:chOff x="6284880" y="3541680"/>
            <a:chExt cx="890640" cy="755640"/>
          </a:xfrm>
        </p:grpSpPr>
        <p:pic>
          <p:nvPicPr>
            <p:cNvPr id="749" name="AutoShape 14" descr=""/>
            <p:cNvPicPr/>
            <p:nvPr/>
          </p:nvPicPr>
          <p:blipFill>
            <a:blip r:embed="rId2"/>
            <a:stretch/>
          </p:blipFill>
          <p:spPr>
            <a:xfrm>
              <a:off x="6284880" y="3541680"/>
              <a:ext cx="890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 rot="10800000">
              <a:off x="6462360" y="3773160"/>
              <a:ext cx="515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1" name="AutoShape 15"/>
          <p:cNvGrpSpPr/>
          <p:nvPr/>
        </p:nvGrpSpPr>
        <p:grpSpPr>
          <a:xfrm>
            <a:off x="6284880" y="4243320"/>
            <a:ext cx="890640" cy="755640"/>
            <a:chOff x="6284880" y="4243320"/>
            <a:chExt cx="890640" cy="755640"/>
          </a:xfrm>
        </p:grpSpPr>
        <p:pic>
          <p:nvPicPr>
            <p:cNvPr id="752" name="AutoShape 15" descr=""/>
            <p:cNvPicPr/>
            <p:nvPr/>
          </p:nvPicPr>
          <p:blipFill>
            <a:blip r:embed="rId3"/>
            <a:stretch/>
          </p:blipFill>
          <p:spPr>
            <a:xfrm>
              <a:off x="6284880" y="4243320"/>
              <a:ext cx="890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 rot="10800000">
              <a:off x="6462360" y="4473360"/>
              <a:ext cx="5158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54" name="Text Box 17"/>
          <p:cNvSpPr/>
          <p:nvPr/>
        </p:nvSpPr>
        <p:spPr>
          <a:xfrm>
            <a:off x="1042920" y="2349360"/>
            <a:ext cx="69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يهدف ه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ذا التكوين الى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rabic Transparent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3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7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1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3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3" dur="3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3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5" dur="3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3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WordArt 2" descr=""/>
          <p:cNvPicPr/>
          <p:nvPr/>
        </p:nvPicPr>
        <p:blipFill>
          <a:blip r:embed="rId1"/>
          <a:stretch/>
        </p:blipFill>
        <p:spPr>
          <a:xfrm>
            <a:off x="1060560" y="2066760"/>
            <a:ext cx="6845040" cy="2584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1954080" y="189000"/>
            <a:ext cx="5724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00"/>
                </a:solidFill>
                <a:latin typeface="Arial"/>
                <a:cs typeface="PT Bold Arch"/>
              </a:rPr>
              <a:t>مبررات التكوي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2880" y="965160"/>
            <a:ext cx="8641080" cy="7894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بمقتضى القرار الوزاري رقم 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932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المؤرخ في 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جويلية 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16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. الذي يهدف اعداد تكوين للأساتذة الباحثين حديثي التوظي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طبقا لبرنامج الوزارة الوصية المتضمن ملخص المحاور لبرنامج التكوين حول، </a:t>
            </a:r>
            <a:r>
              <a:rPr b="1" lang="ar-DZ" sz="3200" spc="-1" strike="noStrike">
                <a:solidFill>
                  <a:srgbClr val="66ff66"/>
                </a:solidFill>
                <a:latin typeface="Traditional Arabic"/>
                <a:cs typeface="Traditional Arabic"/>
              </a:rPr>
              <a:t>اعداد برامج التكوين ، التعليم والمحيط 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ن خلال التطرق الى النقاط التالية 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نظام ل م د ،المصطلحات الجوهرية ، وحدات التعليم ، المسار، التقييم ، الاداء ، الكفاء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فهم معنى الملمح الدراسي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عرفة كيفية تحديد الاهداف والنتائ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كيفية كتابة الافكار الاساسية حول البرامج الدراس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دور الوحدات التعليمية ، الارصد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تقييم الموارد المتاح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ناقشات وورشات عم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2514600" y="609480"/>
            <a:ext cx="5900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4d2d0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</a:rPr>
              <a:t>- التقييم</a:t>
            </a:r>
            <a:r>
              <a:rPr b="1" lang="ar-DZ" sz="2800" spc="-1" strike="noStrike">
                <a:solidFill>
                  <a:srgbClr val="ccaf0a"/>
                </a:solidFill>
                <a:latin typeface="Tahoma"/>
              </a:rPr>
              <a:t> يتم كل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</a:rPr>
              <a:t> سداسي بينما الانتقال </a:t>
            </a:r>
            <a:r>
              <a:rPr b="1" lang="ar-DZ" sz="2800" spc="-1" strike="noStrike">
                <a:solidFill>
                  <a:srgbClr val="ccaf0a"/>
                </a:solidFill>
                <a:latin typeface="Tahoma"/>
              </a:rPr>
              <a:t>يتم 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</a:rPr>
              <a:t>سنوي</a:t>
            </a:r>
            <a:r>
              <a:rPr b="1" lang="ar-DZ" sz="2800" spc="-1" strike="noStrike">
                <a:solidFill>
                  <a:srgbClr val="ccaf0a"/>
                </a:solidFill>
                <a:latin typeface="Tahoma"/>
              </a:rPr>
              <a:t>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285920" y="3071880"/>
            <a:ext cx="75722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00c8c3"/>
                </a:solidFill>
                <a:latin typeface="Traditional Arabic"/>
                <a:ea typeface="Traditional Arabic"/>
              </a:rPr>
              <a:t>02</a:t>
            </a:r>
            <a:r>
              <a:rPr b="1" lang="ar-DZ" sz="3600" spc="-1" strike="noStrike">
                <a:solidFill>
                  <a:srgbClr val="00c8c3"/>
                </a:solidFill>
                <a:latin typeface="Traditional Arabic"/>
                <a:ea typeface="Traditional Arabic"/>
              </a:rPr>
              <a:t>-</a:t>
            </a:r>
            <a:r>
              <a:rPr b="1" lang="ar-SA" sz="2800" spc="-1" strike="noStrike">
                <a:solidFill>
                  <a:srgbClr val="00c8c3"/>
                </a:solidFill>
                <a:latin typeface="Traditional Arabic"/>
                <a:cs typeface="Traditional Arabic"/>
              </a:rPr>
              <a:t>امتحان نهائي في كل وحدة تعليمية خلال  السداسي</a:t>
            </a:r>
            <a:r>
              <a:rPr b="1" lang="ar-SA" sz="3600" spc="-1" strike="noStrike">
                <a:solidFill>
                  <a:srgbClr val="00c8c3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1285920" y="3714840"/>
            <a:ext cx="7572240" cy="576000"/>
          </a:xfrm>
          <a:prstGeom prst="rect">
            <a:avLst/>
          </a:prstGeom>
          <a:solidFill>
            <a:srgbClr val="6ea0b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d4d2d0"/>
                </a:solidFill>
                <a:latin typeface="Traditional Arabic"/>
                <a:ea typeface="Traditional Arabic"/>
              </a:rPr>
              <a:t>03</a:t>
            </a:r>
            <a:r>
              <a:rPr b="1" lang="ar-DZ" sz="3600" spc="-1" strike="noStrike">
                <a:solidFill>
                  <a:srgbClr val="d4d2d0"/>
                </a:solidFill>
                <a:latin typeface="Traditional Arabic"/>
                <a:ea typeface="Traditional Arabic"/>
              </a:rPr>
              <a:t>- </a:t>
            </a:r>
            <a:r>
              <a:rPr b="1" lang="ar-SA" sz="2800" spc="-1" strike="noStrike">
                <a:solidFill>
                  <a:srgbClr val="ff9933"/>
                </a:solidFill>
                <a:latin typeface="Traditional Arabic"/>
                <a:cs typeface="Traditional Arabic"/>
              </a:rPr>
              <a:t>الامتحان الاستدراكي يجرى </a:t>
            </a:r>
            <a:r>
              <a:rPr b="1" lang="ar-DZ" sz="2800" spc="-1" strike="noStrike">
                <a:solidFill>
                  <a:srgbClr val="ff9933"/>
                </a:solidFill>
                <a:latin typeface="Traditional Arabic"/>
                <a:cs typeface="Traditional Arabic"/>
              </a:rPr>
              <a:t>بعد شهرين من الدورة العاد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1295280" y="1905120"/>
            <a:ext cx="7543800" cy="1066680"/>
          </a:xfrm>
          <a:prstGeom prst="rect">
            <a:avLst/>
          </a:prstGeom>
          <a:solidFill>
            <a:srgbClr val="6ea0b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1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- </a:t>
            </a:r>
            <a:r>
              <a:rPr b="1" lang="ar-SA" sz="20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لامتحانات التقويمية لكل وحدة تعليمية تعتمد على المواد التعليمية</a:t>
            </a:r>
            <a:r>
              <a:rPr b="1" lang="ar-DZ" sz="20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وتكون</a:t>
            </a:r>
            <a:r>
              <a:rPr b="1" lang="ar-SA" sz="20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بشكل( امتحانات مستمرة ، أعمل موجهة ، أعمال تطبيقية ، تربصات ، بحوث أو عروض ،العمل الفردي للطالب ......) تدخل نقاط هذه النشاطات مع النقطة النهائية للوحدة</a:t>
            </a:r>
            <a:r>
              <a:rPr b="1" lang="ar-SA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0" name="Group 6"/>
          <p:cNvGrpSpPr/>
          <p:nvPr/>
        </p:nvGrpSpPr>
        <p:grpSpPr>
          <a:xfrm>
            <a:off x="3555360" y="0"/>
            <a:ext cx="3161520" cy="591480"/>
            <a:chOff x="3555360" y="0"/>
            <a:chExt cx="3161520" cy="591480"/>
          </a:xfrm>
        </p:grpSpPr>
        <p:grpSp>
          <p:nvGrpSpPr>
            <p:cNvPr id="761" name="Rectangle 7"/>
            <p:cNvGrpSpPr/>
            <p:nvPr/>
          </p:nvGrpSpPr>
          <p:grpSpPr>
            <a:xfrm>
              <a:off x="4114800" y="0"/>
              <a:ext cx="2133720" cy="533520"/>
              <a:chOff x="4114800" y="0"/>
              <a:chExt cx="2133720" cy="533520"/>
            </a:xfrm>
          </p:grpSpPr>
          <p:pic>
            <p:nvPicPr>
              <p:cNvPr id="762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0"/>
                <a:ext cx="213372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4204440" y="71640"/>
                <a:ext cx="196524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64" name="Text Box 8"/>
            <p:cNvSpPr/>
            <p:nvPr/>
          </p:nvSpPr>
          <p:spPr>
            <a:xfrm>
              <a:off x="3555360" y="70920"/>
              <a:ext cx="31615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cs typeface="Times New Roman"/>
                </a:rPr>
                <a:t>التقييم و الانتقال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5" name="Text Box 9"/>
          <p:cNvSpPr/>
          <p:nvPr/>
        </p:nvSpPr>
        <p:spPr>
          <a:xfrm>
            <a:off x="2346480" y="617400"/>
            <a:ext cx="183960" cy="21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4724280" y="1143000"/>
            <a:ext cx="1981440" cy="1106280"/>
            <a:chOff x="4724280" y="1143000"/>
            <a:chExt cx="1981440" cy="1106280"/>
          </a:xfrm>
        </p:grpSpPr>
        <p:grpSp>
          <p:nvGrpSpPr>
            <p:cNvPr id="767" name="Oval 11"/>
            <p:cNvGrpSpPr/>
            <p:nvPr/>
          </p:nvGrpSpPr>
          <p:grpSpPr>
            <a:xfrm>
              <a:off x="4724280" y="1143000"/>
              <a:ext cx="1981440" cy="685800"/>
              <a:chOff x="4724280" y="1143000"/>
              <a:chExt cx="1981440" cy="685800"/>
            </a:xfrm>
          </p:grpSpPr>
          <p:pic>
            <p:nvPicPr>
              <p:cNvPr id="768" name="Oval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1143000"/>
                <a:ext cx="19814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"/>
              <p:cNvSpPr/>
              <p:nvPr/>
            </p:nvSpPr>
            <p:spPr>
              <a:xfrm>
                <a:off x="5079240" y="1296360"/>
                <a:ext cx="128268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70" name="Text Box 12"/>
            <p:cNvSpPr/>
            <p:nvPr/>
          </p:nvSpPr>
          <p:spPr>
            <a:xfrm>
              <a:off x="5022000" y="1302120"/>
              <a:ext cx="12556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af0a"/>
                  </a:solidFill>
                  <a:latin typeface="Times New Roman"/>
                  <a:cs typeface="Times New Roman"/>
                </a:rPr>
                <a:t>الامتحانات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1" name="Rectangle 13"/>
          <p:cNvSpPr/>
          <p:nvPr/>
        </p:nvSpPr>
        <p:spPr>
          <a:xfrm>
            <a:off x="1285920" y="4357800"/>
            <a:ext cx="7553160" cy="38124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672f6b"/>
                </a:solidFill>
                <a:latin typeface="Times New Roman"/>
                <a:ea typeface="Times New Roman"/>
              </a:rPr>
              <a:t>04</a:t>
            </a:r>
            <a:r>
              <a:rPr b="1" lang="ar-DZ" sz="2800" spc="-1" strike="noStrike">
                <a:solidFill>
                  <a:srgbClr val="672f6b"/>
                </a:solidFill>
                <a:latin typeface="Times New Roman"/>
                <a:ea typeface="Times New Roman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يحق للطالب المشاركة 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ي الامتحانات الاستدراكية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في حالة عدم حصوله على معدل</a:t>
            </a:r>
            <a:r>
              <a:rPr b="1" lang="fr-FR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10/20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في الوحدات التعليمية ، </a:t>
            </a:r>
            <a:r>
              <a:rPr b="1" lang="ar-DZ" sz="2400" spc="-1" strike="noStrike">
                <a:solidFill>
                  <a:srgbClr val="ccaf0a"/>
                </a:solidFill>
                <a:latin typeface="Traditional Arabic"/>
                <a:cs typeface="Traditional Arabic"/>
              </a:rPr>
              <a:t>يستفيد الطالب من أحسن علامة بين الدورة العادية و الاستدراك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كل طالب لم يتحصل على معدل </a:t>
            </a:r>
            <a:r>
              <a:rPr b="1" lang="fr-FR" sz="2400" spc="-1" strike="noStrike">
                <a:solidFill>
                  <a:srgbClr val="ff00ff"/>
                </a:solidFill>
                <a:latin typeface="Traditional Arabic"/>
                <a:ea typeface="Traditional Arabic"/>
              </a:rPr>
              <a:t>10/20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في دورة </a:t>
            </a:r>
            <a:r>
              <a:rPr b="1" lang="ar-DZ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استدراك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يحتفظ </a:t>
            </a:r>
            <a:r>
              <a:rPr b="1" lang="ar-DZ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بأرصدة و نقاط 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وحدات التعليمية التي تحصل فيها على معدل يساوي أو يفوق </a:t>
            </a:r>
            <a:r>
              <a:rPr b="1" lang="fr-FR" sz="2400" spc="-1" strike="noStrike">
                <a:solidFill>
                  <a:srgbClr val="ff00ff"/>
                </a:solidFill>
                <a:latin typeface="Traditional Arabic"/>
                <a:ea typeface="Traditional Arabic"/>
              </a:rPr>
              <a:t>10/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571760" y="1071720"/>
            <a:ext cx="707076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إن</a:t>
            </a:r>
            <a:r>
              <a:rPr b="1" lang="ar-DZ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ساب </a:t>
            </a:r>
            <a:r>
              <a:rPr b="1" lang="ar-DZ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عدل المواد و </a:t>
            </a:r>
            <a:r>
              <a:rPr b="1" lang="ar-SA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لمعدل العام للوحدات التعليمية أو المعدل العام للسداسي يتم وفق نظام التعويض بين المواد التعليمية و بين الوحدات التعليم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4191120" y="617400"/>
            <a:ext cx="1006200" cy="21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74" name="Group 4"/>
          <p:cNvGrpSpPr/>
          <p:nvPr/>
        </p:nvGrpSpPr>
        <p:grpSpPr>
          <a:xfrm>
            <a:off x="3962520" y="152280"/>
            <a:ext cx="2822400" cy="685800"/>
            <a:chOff x="3962520" y="152280"/>
            <a:chExt cx="2822400" cy="685800"/>
          </a:xfrm>
        </p:grpSpPr>
        <p:grpSp>
          <p:nvGrpSpPr>
            <p:cNvPr id="775" name="Oval 5"/>
            <p:cNvGrpSpPr/>
            <p:nvPr/>
          </p:nvGrpSpPr>
          <p:grpSpPr>
            <a:xfrm>
              <a:off x="3962520" y="152280"/>
              <a:ext cx="2818800" cy="685800"/>
              <a:chOff x="3962520" y="152280"/>
              <a:chExt cx="2818800" cy="685800"/>
            </a:xfrm>
          </p:grpSpPr>
          <p:pic>
            <p:nvPicPr>
              <p:cNvPr id="776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152280"/>
                <a:ext cx="28188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4441320" y="303120"/>
                <a:ext cx="18698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78" name="Text Box 6"/>
            <p:cNvSpPr/>
            <p:nvPr/>
          </p:nvSpPr>
          <p:spPr>
            <a:xfrm>
              <a:off x="4167360" y="272880"/>
              <a:ext cx="26175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raditional Arabic"/>
                  <a:cs typeface="Traditional Arabic"/>
                </a:rPr>
                <a:t>حساب المعدل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9" name="Rectangle 7"/>
          <p:cNvSpPr/>
          <p:nvPr/>
        </p:nvSpPr>
        <p:spPr>
          <a:xfrm>
            <a:off x="1571760" y="2928960"/>
            <a:ext cx="7115040" cy="69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ab94"/>
              </a:gs>
            </a:gsLst>
            <a:lin ang="10800000"/>
          </a:gradFill>
          <a:ln w="12600">
            <a:solidFill>
              <a:srgbClr val="ff000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لمعدل العام  وت 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=</a:t>
            </a:r>
            <a:r>
              <a:rPr b="1" lang="ar-SA" sz="2400" spc="-1" strike="noStrike">
                <a:solidFill>
                  <a:srgbClr val="ffcc66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cs typeface="Traditional Arabic"/>
              </a:rPr>
              <a:t>م .ت.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*</a:t>
            </a:r>
            <a:r>
              <a:rPr b="1" lang="ar-SA" sz="2400" spc="-1" strike="noStrike" u="sng">
                <a:solidFill>
                  <a:srgbClr val="6ea0b0"/>
                </a:solidFill>
                <a:uFillTx/>
                <a:latin typeface="Traditional Arabic"/>
                <a:ea typeface="Traditional Arabic"/>
              </a:rPr>
              <a:t>*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+ م.ت.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* </a:t>
            </a:r>
            <a:r>
              <a:rPr b="1" lang="ar-SA" sz="2400" spc="-1" strike="noStrike" u="sng">
                <a:solidFill>
                  <a:srgbClr val="6ea0b0"/>
                </a:solidFill>
                <a:uFillTx/>
                <a:latin typeface="Traditional Arabic"/>
                <a:ea typeface="Traditional Arabic"/>
              </a:rPr>
              <a:t>*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 </a:t>
            </a:r>
            <a:r>
              <a:rPr b="1" lang="ar-SA" sz="2400" spc="-1" strike="noStrike" u="sng">
                <a:solidFill>
                  <a:srgbClr val="6ea0b0"/>
                </a:solidFill>
                <a:uFillTx/>
                <a:latin typeface="Traditional Arabic"/>
                <a:ea typeface="Traditional Arabic"/>
              </a:rPr>
              <a:t>*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م.ت.*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3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ccaf0a"/>
                </a:solidFill>
                <a:latin typeface="Traditional Arabic"/>
                <a:ea typeface="Traditional Arabic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معامل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ccaf0a"/>
                </a:solidFill>
                <a:latin typeface="Traditional Arabic"/>
                <a:ea typeface="Traditional Arabic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معامل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0" name="Rectangle 8" descr=""/>
          <p:cNvPicPr/>
          <p:nvPr/>
        </p:nvPicPr>
        <p:blipFill>
          <a:blip r:embed="rId2"/>
          <a:stretch/>
        </p:blipFill>
        <p:spPr>
          <a:xfrm>
            <a:off x="208080" y="3718080"/>
            <a:ext cx="8497800" cy="89676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7"/>
          <p:cNvSpPr/>
          <p:nvPr/>
        </p:nvSpPr>
        <p:spPr>
          <a:xfrm>
            <a:off x="3500280" y="2143080"/>
            <a:ext cx="5186520" cy="69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ab94"/>
              </a:gs>
            </a:gsLst>
            <a:lin ang="10800000"/>
          </a:gradFill>
          <a:ln w="12600">
            <a:solidFill>
              <a:srgbClr val="ff000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عدل مادة </a:t>
            </a: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=</a:t>
            </a:r>
            <a:r>
              <a:rPr b="1" lang="ar-SA" sz="2400" spc="-1" strike="noStrike">
                <a:solidFill>
                  <a:srgbClr val="ffcc66"/>
                </a:solidFill>
                <a:latin typeface="Traditional Arabic"/>
                <a:ea typeface="Traditional Arabic"/>
              </a:rPr>
              <a:t> </a:t>
            </a:r>
            <a:r>
              <a:rPr b="1" lang="ar-DZ" sz="2400" spc="-1" strike="noStrike" u="sng">
                <a:solidFill>
                  <a:srgbClr val="ccaf0a"/>
                </a:solidFill>
                <a:uFillTx/>
                <a:latin typeface="Traditional Arabic"/>
                <a:cs typeface="Traditional Arabic"/>
              </a:rPr>
              <a:t>ع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.ت.م*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+ </a:t>
            </a:r>
            <a:r>
              <a:rPr b="1" lang="ar-DZ" sz="2400" spc="-1" strike="noStrike" u="sng">
                <a:solidFill>
                  <a:srgbClr val="ccaf0a"/>
                </a:solidFill>
                <a:uFillTx/>
                <a:latin typeface="Traditional Arabic"/>
                <a:cs typeface="Traditional Arabic"/>
              </a:rPr>
              <a:t>ع 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cs typeface="Traditional Arabic"/>
              </a:rPr>
              <a:t>إ ن  </a:t>
            </a:r>
            <a:r>
              <a:rPr b="1" lang="ar-SA" sz="2400" spc="-1" strike="noStrike" u="sng">
                <a:solidFill>
                  <a:srgbClr val="6ea0b0"/>
                </a:solidFill>
                <a:uFillTx/>
                <a:latin typeface="Traditional Arabic"/>
                <a:ea typeface="Traditional Arabic"/>
              </a:rPr>
              <a:t>*</a:t>
            </a:r>
            <a:r>
              <a:rPr b="1" lang="ar-SA" sz="2400" spc="-1" strike="noStrike" u="sng">
                <a:solidFill>
                  <a:srgbClr val="ccaf0a"/>
                </a:solidFill>
                <a:uFillTx/>
                <a:latin typeface="Traditional Arabic"/>
                <a:ea typeface="Traditional Arabic"/>
              </a:rPr>
              <a:t>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معامل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Traditional Arab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28760" y="4786200"/>
            <a:ext cx="8213760" cy="571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 ت م:علامة التقويم المستمرللمادة، ع إ ن:علامة الامتحان النهائي للمادة، م ت:معدل المادة ، وت:معدل الوحد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428760" y="5572080"/>
            <a:ext cx="8213760" cy="1000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لاحظة : تنشر طريقة حساب معدلات المواد في بداية السنة الجام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3"/>
          <p:cNvGrpSpPr/>
          <p:nvPr/>
        </p:nvGrpSpPr>
        <p:grpSpPr>
          <a:xfrm>
            <a:off x="774720" y="4059360"/>
            <a:ext cx="8240760" cy="1744560"/>
            <a:chOff x="774720" y="4059360"/>
            <a:chExt cx="8240760" cy="1744560"/>
          </a:xfrm>
        </p:grpSpPr>
        <p:pic>
          <p:nvPicPr>
            <p:cNvPr id="785" name="Rectangle 3" descr=""/>
            <p:cNvPicPr/>
            <p:nvPr/>
          </p:nvPicPr>
          <p:blipFill>
            <a:blip r:embed="rId1"/>
            <a:stretch/>
          </p:blipFill>
          <p:spPr>
            <a:xfrm>
              <a:off x="774720" y="4059360"/>
              <a:ext cx="82407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57160" y="4143240"/>
              <a:ext cx="80726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672f6b"/>
                  </a:solidFill>
                  <a:latin typeface="Traditional Arabic"/>
                  <a:ea typeface="Traditional Arabic"/>
                </a:rPr>
                <a:t>4</a:t>
              </a:r>
              <a:r>
                <a:rPr b="1" lang="ar-SA" sz="2400" spc="-1" strike="noStrike">
                  <a:solidFill>
                    <a:srgbClr val="d4d2d0"/>
                  </a:solidFill>
                  <a:latin typeface="Traditional Arabic"/>
                  <a:ea typeface="Traditional Arabic"/>
                </a:rPr>
                <a:t>- </a:t>
              </a:r>
              <a:r>
                <a:rPr b="1" lang="ar-DZ" sz="2400" spc="-1" strike="noStrike">
                  <a:solidFill>
                    <a:srgbClr val="ccaf0a"/>
                  </a:solidFill>
                  <a:latin typeface="Traditional Arabic"/>
                  <a:cs typeface="Traditional Arabic"/>
                </a:rPr>
                <a:t>ينتقل الطالب</a:t>
              </a:r>
              <a:r>
                <a:rPr b="1" lang="ar-SA" sz="2400" spc="-1" strike="noStrike">
                  <a:solidFill>
                    <a:srgbClr val="ccaf0a"/>
                  </a:solidFill>
                  <a:latin typeface="Traditional Arabic"/>
                  <a:ea typeface="Traditional Arabic"/>
                </a:rPr>
                <a:t> من </a:t>
              </a:r>
              <a:r>
                <a:rPr b="1" lang="ar-SA" sz="24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السنة الثانية إلى السنة الثالثة</a:t>
              </a:r>
              <a:r>
                <a:rPr b="1" lang="ar-SA" sz="2400" spc="-1" strike="noStrike">
                  <a:solidFill>
                    <a:srgbClr val="ccaf0a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400" spc="-1" strike="noStrike">
                  <a:solidFill>
                    <a:srgbClr val="ccaf0a"/>
                  </a:solidFill>
                  <a:latin typeface="Traditional Arabic"/>
                  <a:cs typeface="Traditional Arabic"/>
                </a:rPr>
                <a:t>اذا تحصل </a:t>
              </a:r>
              <a:r>
                <a:rPr b="1" lang="ar-SA" sz="2400" spc="-1" strike="noStrike">
                  <a:solidFill>
                    <a:srgbClr val="ccaf0a"/>
                  </a:solidFill>
                  <a:latin typeface="Traditional Arabic"/>
                  <a:cs typeface="Traditional Arabic"/>
                </a:rPr>
                <a:t>على مجموع يساوي </a:t>
              </a:r>
              <a:r>
                <a:rPr b="1" lang="fr-FR" sz="24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120</a:t>
              </a:r>
              <a:r>
                <a:rPr b="1" lang="ar-SA" sz="2400" spc="-1" strike="noStrike">
                  <a:solidFill>
                    <a:srgbClr val="ccaf0a"/>
                  </a:solidFill>
                  <a:latin typeface="Traditional Arabic"/>
                  <a:ea typeface="Traditional Arabic"/>
                </a:rPr>
                <a:t>  رصيد في السنة الثانية والأولى </a:t>
              </a:r>
              <a:r>
                <a:rPr b="1" lang="ar-DZ" sz="24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في هذه الحالة يتوج الطالب بشهادة نجاح</a:t>
              </a:r>
              <a:r>
                <a:rPr b="1" lang="ar-SA" sz="2400" spc="-1" strike="noStrike">
                  <a:solidFill>
                    <a:srgbClr val="ff0000"/>
                  </a:solidFill>
                  <a:latin typeface="Traditional Arabic"/>
                  <a:ea typeface="Traditional Arabic"/>
                </a:rPr>
                <a:t> الى </a:t>
              </a:r>
              <a:r>
                <a:rPr b="1" lang="ar-DZ" sz="24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السنة الثالثة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33cc33"/>
                  </a:solidFill>
                  <a:latin typeface="Traditional Arabic"/>
                  <a:cs typeface="Traditional Arabic"/>
                </a:rPr>
                <a:t>يسمح للطالب بالانتقال الى السنة الثالثة اذا تحصل على </a:t>
              </a:r>
              <a:r>
                <a:rPr b="1" lang="ar-DZ" sz="2400" spc="-1" strike="noStrike">
                  <a:solidFill>
                    <a:srgbClr val="33cc33"/>
                  </a:solidFill>
                  <a:latin typeface="Traditional Arabic"/>
                  <a:ea typeface="Traditional Arabic"/>
                </a:rPr>
                <a:t>90</a:t>
              </a:r>
              <a:r>
                <a:rPr b="1" lang="ar-DZ" sz="2400" spc="-1" strike="noStrike">
                  <a:solidFill>
                    <a:srgbClr val="33cc33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SA" sz="2400" spc="-1" strike="noStrike">
                  <a:solidFill>
                    <a:srgbClr val="ccaf0a"/>
                  </a:solidFill>
                  <a:latin typeface="Traditional Arabic"/>
                  <a:cs typeface="Traditional Arabic"/>
                </a:rPr>
                <a:t>رصيد</a:t>
              </a:r>
              <a:r>
                <a:rPr b="1" lang="ar-DZ" sz="2400" spc="-1" strike="noStrike">
                  <a:solidFill>
                    <a:srgbClr val="33cc33"/>
                  </a:solidFill>
                  <a:latin typeface="Traditional Arabic"/>
                  <a:ea typeface="Traditional Arabic"/>
                </a:rPr>
                <a:t>  و المعدل في المواد المطلوبة مسبقا .</a:t>
              </a:r>
              <a:r>
                <a:rPr b="1" lang="ar-DZ" sz="2400" spc="-1" strike="noStrike">
                  <a:solidFill>
                    <a:srgbClr val="ff3300"/>
                  </a:solidFill>
                  <a:latin typeface="Traditional Arabic"/>
                  <a:cs typeface="Traditional Arabic"/>
                </a:rPr>
                <a:t>في هذه الحالة يتوج الطالب بشهادة ارتقاء إلى</a:t>
              </a:r>
              <a:r>
                <a:rPr b="1" lang="ar-SA" sz="2400" spc="-1" strike="noStrike">
                  <a:solidFill>
                    <a:srgbClr val="ff3300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400" spc="-1" strike="noStrike">
                  <a:solidFill>
                    <a:srgbClr val="ff3300"/>
                  </a:solidFill>
                  <a:latin typeface="Traditional Arabic"/>
                  <a:cs typeface="Traditional Arabic"/>
                </a:rPr>
                <a:t>السنة الثالثة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7" name="Rectangle 4"/>
          <p:cNvGrpSpPr/>
          <p:nvPr/>
        </p:nvGrpSpPr>
        <p:grpSpPr>
          <a:xfrm>
            <a:off x="774720" y="701640"/>
            <a:ext cx="8240760" cy="1030320"/>
            <a:chOff x="774720" y="701640"/>
            <a:chExt cx="8240760" cy="1030320"/>
          </a:xfrm>
        </p:grpSpPr>
        <p:pic>
          <p:nvPicPr>
            <p:cNvPr id="788" name="Rectangle 4" descr=""/>
            <p:cNvPicPr/>
            <p:nvPr/>
          </p:nvPicPr>
          <p:blipFill>
            <a:blip r:embed="rId2"/>
            <a:stretch/>
          </p:blipFill>
          <p:spPr>
            <a:xfrm>
              <a:off x="774720" y="701640"/>
              <a:ext cx="82407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857160" y="785880"/>
              <a:ext cx="80726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000" spc="-1" strike="noStrike">
                  <a:solidFill>
                    <a:srgbClr val="672f6b"/>
                  </a:solidFill>
                  <a:latin typeface="Traditional Arabic"/>
                  <a:ea typeface="Traditional Arabic"/>
                </a:rPr>
                <a:t>1</a:t>
              </a:r>
              <a:r>
                <a:rPr b="1" lang="ar-SA" sz="2000" spc="-1" strike="noStrike">
                  <a:solidFill>
                    <a:srgbClr val="d4d2d0"/>
                  </a:solidFill>
                  <a:latin typeface="Traditional Arabic"/>
                  <a:ea typeface="Traditional Arabic"/>
                </a:rPr>
                <a:t>-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الانتقال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من السنة الاولى الى السنة الثانية في حالة حصوله على معدل يساوي أو يفوق </a:t>
              </a:r>
              <a:r>
                <a:rPr b="1" lang="fr-FR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10/20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 أو تحصله على مجموع أرصدة محصورة بين </a:t>
              </a:r>
              <a:r>
                <a:rPr b="1" lang="fr-FR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30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الى </a:t>
              </a:r>
              <a:r>
                <a:rPr b="1" lang="fr-FR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60</a:t>
              </a:r>
              <a:r>
                <a:rPr b="1" lang="ar-SA" sz="2000" spc="-1" strike="noStrike">
                  <a:solidFill>
                    <a:srgbClr val="d4d2d0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0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في هذه الحالة يتوج الطالب بشهادة نجاح</a:t>
              </a:r>
              <a:r>
                <a:rPr b="1" lang="ar-SA" sz="2000" spc="-1" strike="noStrike">
                  <a:solidFill>
                    <a:srgbClr val="ff0000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0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السنة الاولى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0" name="Rectangle 5"/>
          <p:cNvGrpSpPr/>
          <p:nvPr/>
        </p:nvGrpSpPr>
        <p:grpSpPr>
          <a:xfrm>
            <a:off x="774720" y="1616040"/>
            <a:ext cx="8240760" cy="1114560"/>
            <a:chOff x="774720" y="1616040"/>
            <a:chExt cx="8240760" cy="1114560"/>
          </a:xfrm>
        </p:grpSpPr>
        <p:pic>
          <p:nvPicPr>
            <p:cNvPr id="791" name="Rectangle 5" descr=""/>
            <p:cNvPicPr/>
            <p:nvPr/>
          </p:nvPicPr>
          <p:blipFill>
            <a:blip r:embed="rId3"/>
            <a:stretch/>
          </p:blipFill>
          <p:spPr>
            <a:xfrm>
              <a:off x="774720" y="1616040"/>
              <a:ext cx="82407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57160" y="1700280"/>
              <a:ext cx="80726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200" spc="-1" strike="noStrike">
                  <a:solidFill>
                    <a:srgbClr val="672f6b"/>
                  </a:solidFill>
                  <a:latin typeface="Traditional Arabic"/>
                  <a:ea typeface="Traditional Arabic"/>
                </a:rPr>
                <a:t>2</a:t>
              </a:r>
              <a:r>
                <a:rPr b="1" lang="ar-SA" sz="2000" spc="-1" strike="noStrike">
                  <a:solidFill>
                    <a:srgbClr val="d4d2d0"/>
                  </a:solidFill>
                  <a:latin typeface="Traditional Arabic"/>
                  <a:ea typeface="Traditional Arabic"/>
                </a:rPr>
                <a:t>-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كل من تحصل على وحدات تعليمية </a:t>
              </a:r>
              <a:r>
                <a:rPr b="1" lang="ar-SA" sz="2000" spc="-1" strike="noStrike">
                  <a:solidFill>
                    <a:srgbClr val="ccaf0a"/>
                  </a:solidFill>
                  <a:latin typeface="Traditional Arabic"/>
                  <a:cs typeface="Traditional Arabic"/>
                </a:rPr>
                <a:t>بمعدل يساوي أو يفوق</a:t>
              </a:r>
              <a:r>
                <a:rPr b="1" lang="fr-FR" sz="2000" spc="-1" strike="noStrike">
                  <a:solidFill>
                    <a:srgbClr val="ccaf0a"/>
                  </a:solidFill>
                  <a:latin typeface="Traditional Arabic"/>
                  <a:ea typeface="Traditional Arabic"/>
                </a:rPr>
                <a:t>10/20</a:t>
              </a:r>
              <a:r>
                <a:rPr b="1" lang="fr-FR" sz="2000" spc="-1" strike="noStrike">
                  <a:solidFill>
                    <a:srgbClr val="ccaf0a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يمكنه الاحتفاظ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بها و برصيدها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و هي  قابلة للتحويل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من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ميدان إلى أخر و من مسار تكوين إلى أخر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Group 6"/>
          <p:cNvGrpSpPr/>
          <p:nvPr/>
        </p:nvGrpSpPr>
        <p:grpSpPr>
          <a:xfrm>
            <a:off x="5429160" y="0"/>
            <a:ext cx="2047680" cy="1014120"/>
            <a:chOff x="5429160" y="0"/>
            <a:chExt cx="2047680" cy="1014120"/>
          </a:xfrm>
        </p:grpSpPr>
        <p:sp>
          <p:nvSpPr>
            <p:cNvPr id="794" name="Oval 7"/>
            <p:cNvSpPr/>
            <p:nvPr/>
          </p:nvSpPr>
          <p:spPr>
            <a:xfrm>
              <a:off x="5429160" y="0"/>
              <a:ext cx="2047680" cy="642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ab94"/>
                </a:gs>
              </a:gsLst>
              <a:lin ang="10800000"/>
            </a:gradFill>
            <a:ln w="12600">
              <a:solidFill>
                <a:srgbClr val="d4d2d0"/>
              </a:solidFill>
              <a:miter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Text Box 8"/>
            <p:cNvSpPr/>
            <p:nvPr/>
          </p:nvSpPr>
          <p:spPr>
            <a:xfrm>
              <a:off x="5429160" y="66960"/>
              <a:ext cx="201096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66"/>
                  </a:solidFill>
                  <a:latin typeface="Traditional Arabic"/>
                  <a:cs typeface="Traditional Arabic"/>
                </a:rPr>
                <a:t>الانتقال</a:t>
              </a:r>
              <a:r>
                <a:rPr b="1" lang="ar-DZ" sz="2800" spc="-1" strike="noStrike">
                  <a:solidFill>
                    <a:srgbClr val="66ff66"/>
                  </a:solidFill>
                  <a:latin typeface="Traditional Arabic"/>
                  <a:ea typeface="Traditional Arabic"/>
                </a:rPr>
                <a:t> و الارتقاء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6" name="Rectangle 2"/>
          <p:cNvGrpSpPr/>
          <p:nvPr/>
        </p:nvGrpSpPr>
        <p:grpSpPr>
          <a:xfrm>
            <a:off x="762120" y="2651040"/>
            <a:ext cx="8259480" cy="1715400"/>
            <a:chOff x="762120" y="2651040"/>
            <a:chExt cx="8259480" cy="1715400"/>
          </a:xfrm>
        </p:grpSpPr>
        <p:pic>
          <p:nvPicPr>
            <p:cNvPr id="797" name="Rectangle 2" descr=""/>
            <p:cNvPicPr/>
            <p:nvPr/>
          </p:nvPicPr>
          <p:blipFill>
            <a:blip r:embed="rId4"/>
            <a:stretch/>
          </p:blipFill>
          <p:spPr>
            <a:xfrm>
              <a:off x="762120" y="2651040"/>
              <a:ext cx="82594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7160" y="2747880"/>
              <a:ext cx="8072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000" spc="-1" strike="noStrike">
                  <a:solidFill>
                    <a:srgbClr val="672f6b"/>
                  </a:solidFill>
                  <a:latin typeface="Traditional Arabic"/>
                  <a:ea typeface="Traditional Arabic"/>
                </a:rPr>
                <a:t>3</a:t>
              </a:r>
              <a:r>
                <a:rPr b="1" lang="ar-SA" sz="2000" spc="-1" strike="noStrike">
                  <a:solidFill>
                    <a:srgbClr val="d4d2d0"/>
                  </a:solidFill>
                  <a:latin typeface="Traditional Arabic"/>
                  <a:ea typeface="Traditional Arabic"/>
                </a:rPr>
                <a:t>-</a:t>
              </a:r>
              <a:r>
                <a:rPr b="1" lang="ar-SA" sz="20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الا</a:t>
              </a:r>
              <a:r>
                <a:rPr b="1" lang="ar-DZ" sz="2000" spc="-1" strike="noStrike">
                  <a:solidFill>
                    <a:srgbClr val="ff0000"/>
                  </a:solidFill>
                  <a:latin typeface="Traditional Arabic"/>
                  <a:cs typeface="Traditional Arabic"/>
                </a:rPr>
                <a:t>رتقاء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من السنة </a:t>
              </a:r>
              <a:r>
                <a:rPr b="1" lang="ar-SA" sz="2000" spc="-1" strike="noStrike">
                  <a:solidFill>
                    <a:srgbClr val="6ea0b0"/>
                  </a:solidFill>
                  <a:latin typeface="Traditional Arabic"/>
                  <a:cs typeface="Traditional Arabic"/>
                </a:rPr>
                <a:t>الأولى إلى الثانية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 rtl="1">
                <a:lnSpc>
                  <a:spcPct val="100000"/>
                </a:lnSpc>
                <a:buClr>
                  <a:srgbClr val="ff00ff"/>
                </a:buClr>
                <a:buFont typeface="Traditional Arabic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يمكن للطالب أن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يرتقى إلى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السنة الثانية إذا تحصل على الا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cs typeface="Traditional Arabic"/>
                </a:rPr>
                <a:t>قل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30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رصيد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من مجموع أرصدة السنة الأولى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بشرط حصوله على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1/3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من مجموع رصيد احد السداسيين و 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2/3</a:t>
              </a:r>
              <a:r>
                <a:rPr b="1" lang="ar-DZ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 في السداسي الاخر </a:t>
              </a:r>
              <a:r>
                <a:rPr b="1" lang="ar-SA" sz="2000" spc="-1" strike="noStrike">
                  <a:solidFill>
                    <a:srgbClr val="ff00ff"/>
                  </a:solidFill>
                  <a:latin typeface="Traditional Arabic"/>
                  <a:ea typeface="Traditional Arabic"/>
                </a:rPr>
                <a:t>.</a:t>
              </a:r>
              <a:r>
                <a:rPr b="1" lang="ar-DZ" sz="2000" spc="-1" strike="noStrike">
                  <a:solidFill>
                    <a:srgbClr val="666666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000" spc="-1" strike="noStrike">
                  <a:solidFill>
                    <a:srgbClr val="ff3300"/>
                  </a:solidFill>
                  <a:latin typeface="Traditional Arabic"/>
                  <a:cs typeface="Traditional Arabic"/>
                </a:rPr>
                <a:t>في هذه الحالة يتوج الطالب بشهادة ارتقاء إلى</a:t>
              </a:r>
              <a:r>
                <a:rPr b="1" lang="ar-SA" sz="2000" spc="-1" strike="noStrike">
                  <a:solidFill>
                    <a:srgbClr val="ff3300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DZ" sz="2000" spc="-1" strike="noStrike">
                  <a:solidFill>
                    <a:srgbClr val="ff3300"/>
                  </a:solidFill>
                  <a:latin typeface="Traditional Arabic"/>
                  <a:cs typeface="Traditional Arabic"/>
                </a:rPr>
                <a:t>السنة الثانية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Rectangle 5"/>
          <p:cNvGrpSpPr/>
          <p:nvPr/>
        </p:nvGrpSpPr>
        <p:grpSpPr>
          <a:xfrm>
            <a:off x="774720" y="5761080"/>
            <a:ext cx="8240760" cy="1109520"/>
            <a:chOff x="774720" y="5761080"/>
            <a:chExt cx="8240760" cy="1109520"/>
          </a:xfrm>
        </p:grpSpPr>
        <p:pic>
          <p:nvPicPr>
            <p:cNvPr id="800" name="Rectangle 5" descr=""/>
            <p:cNvPicPr/>
            <p:nvPr/>
          </p:nvPicPr>
          <p:blipFill>
            <a:blip r:embed="rId5"/>
            <a:stretch/>
          </p:blipFill>
          <p:spPr>
            <a:xfrm>
              <a:off x="774720" y="5761080"/>
              <a:ext cx="82407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857160" y="5843520"/>
              <a:ext cx="8072640" cy="9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000" spc="-1" strike="noStrike" u="sng">
                  <a:solidFill>
                    <a:srgbClr val="66ff33"/>
                  </a:solidFill>
                  <a:uFillTx/>
                  <a:latin typeface="Traditional Arabic"/>
                  <a:cs typeface="Traditional Arabic"/>
                </a:rPr>
                <a:t>ملاحظة :</a:t>
              </a:r>
              <a:r>
                <a:rPr b="1" lang="ar-SA" sz="2000" spc="-1" strike="noStrike">
                  <a:solidFill>
                    <a:srgbClr val="000000"/>
                  </a:solidFill>
                  <a:latin typeface="Traditional Arabic"/>
                  <a:cs typeface="Traditional Arabic"/>
                </a:rPr>
                <a:t>يسمح لكل طالب تحصل على معدل  يساوي أو يفوق</a:t>
              </a:r>
              <a:r>
                <a:rPr b="1" lang="fr-FR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10/20</a:t>
              </a:r>
              <a:r>
                <a:rPr b="1" lang="ar-SA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 من مجموع وحدات السنة مرجحة بمعاملاتها  بالتسجيل في السنة الثانية ( س</a:t>
              </a:r>
              <a:r>
                <a:rPr b="1" lang="fr-FR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1</a:t>
              </a:r>
              <a:r>
                <a:rPr b="1" lang="ar-SA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 س</a:t>
              </a:r>
              <a:r>
                <a:rPr b="1" lang="fr-FR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) بدون تأخير، التعويض يتم بين سداسيات نفس السنة</a:t>
              </a:r>
              <a:r>
                <a:rPr b="1" lang="ar-DZ" sz="20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mb dir="horz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Rectangle 2"/>
          <p:cNvGrpSpPr/>
          <p:nvPr/>
        </p:nvGrpSpPr>
        <p:grpSpPr>
          <a:xfrm>
            <a:off x="622440" y="2193840"/>
            <a:ext cx="7662600" cy="2695680"/>
            <a:chOff x="622440" y="2193840"/>
            <a:chExt cx="7662600" cy="2695680"/>
          </a:xfrm>
        </p:grpSpPr>
        <p:pic>
          <p:nvPicPr>
            <p:cNvPr id="803" name="Rectangle 2" descr=""/>
            <p:cNvPicPr/>
            <p:nvPr/>
          </p:nvPicPr>
          <p:blipFill>
            <a:blip r:embed="rId1"/>
            <a:stretch/>
          </p:blipFill>
          <p:spPr>
            <a:xfrm>
              <a:off x="622440" y="2193840"/>
              <a:ext cx="766260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642960" y="2214720"/>
              <a:ext cx="763092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يتم ترتيب الطلبة المنتقلين إلى السنة الثالثة بعد دراسة الملف من طرف اللجنة البيداغوجية لمسار التكوين بناءا على ما يلي :</a:t>
              </a:r>
              <a:br>
                <a:rPr sz="2400"/>
              </a:b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                          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1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-</a:t>
              </a:r>
              <a:r>
                <a:rPr b="1" lang="en-US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 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توفر شروط الالتحاق بمسار التكوين </a:t>
              </a:r>
              <a:br>
                <a:rPr sz="2400"/>
              </a:b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	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              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2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- 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رغبة الطالب</a:t>
              </a:r>
              <a:br>
                <a:rPr sz="2400"/>
              </a:b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	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              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3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- 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معدل الطالب</a:t>
              </a:r>
              <a:br>
                <a:rPr sz="2400"/>
              </a:b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                          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4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- معدل 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و ت أ ، دورة النجاح....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1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cs typeface="Traditional Arabic"/>
                </a:rPr>
                <a:t>أو 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02</a:t>
              </a:r>
              <a:r>
                <a:rPr b="1" lang="ar-DZ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...الخ</a:t>
              </a:r>
              <a:r>
                <a:rPr b="1" lang="ar-SA" sz="2400" spc="-1" strike="noStrike">
                  <a:solidFill>
                    <a:srgbClr val="002060"/>
                  </a:solidFill>
                  <a:latin typeface="Traditional Arabic"/>
                  <a:ea typeface="Traditional Arabic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Group 10"/>
          <p:cNvGrpSpPr/>
          <p:nvPr/>
        </p:nvGrpSpPr>
        <p:grpSpPr>
          <a:xfrm>
            <a:off x="3357720" y="714240"/>
            <a:ext cx="2647800" cy="1694520"/>
            <a:chOff x="3357720" y="714240"/>
            <a:chExt cx="2647800" cy="1694520"/>
          </a:xfrm>
        </p:grpSpPr>
        <p:grpSp>
          <p:nvGrpSpPr>
            <p:cNvPr id="806" name="Oval 8"/>
            <p:cNvGrpSpPr/>
            <p:nvPr/>
          </p:nvGrpSpPr>
          <p:grpSpPr>
            <a:xfrm>
              <a:off x="3357720" y="714240"/>
              <a:ext cx="2647800" cy="981360"/>
              <a:chOff x="3357720" y="714240"/>
              <a:chExt cx="2647800" cy="981360"/>
            </a:xfrm>
          </p:grpSpPr>
          <p:pic>
            <p:nvPicPr>
              <p:cNvPr id="807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714240"/>
                <a:ext cx="2647800" cy="9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>
                <a:off x="3809520" y="913320"/>
                <a:ext cx="174888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9" name="Text Box 9"/>
            <p:cNvSpPr/>
            <p:nvPr/>
          </p:nvSpPr>
          <p:spPr>
            <a:xfrm>
              <a:off x="3448080" y="851760"/>
              <a:ext cx="235692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6ff33"/>
                  </a:solidFill>
                  <a:latin typeface="Traditional Arabic"/>
                  <a:cs typeface="Traditional Arabic"/>
                </a:rPr>
                <a:t>ترتيب الطلبة و توزيعهم على مسارات التكوين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mb dir="horz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8"/>
          <p:cNvSpPr/>
          <p:nvPr/>
        </p:nvSpPr>
        <p:spPr>
          <a:xfrm>
            <a:off x="142920" y="-147240"/>
            <a:ext cx="88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66ff33"/>
                </a:solidFill>
                <a:latin typeface="Traditional Arabic"/>
                <a:cs typeface="Traditional Arabic"/>
              </a:rPr>
              <a:t>ـ </a:t>
            </a:r>
            <a:r>
              <a:rPr b="1" lang="ar-DZ" sz="2800" spc="-1" strike="noStrike">
                <a:solidFill>
                  <a:srgbClr val="66ff33"/>
                </a:solidFill>
                <a:latin typeface="Traditional Arabic"/>
                <a:cs typeface="Traditional Arabic"/>
              </a:rPr>
              <a:t>معايير ترتيب الطلبة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يتم ترتيب الطلبة الناجحين إلى السنة الثالثة أو السنةالاولى ماستر وفق القرار الوزاري رقم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714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ويراعى في ذالك حساب المعدل الترتيبي وفقا للعلاقة الرياضية التالية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2206800" y="1779480"/>
            <a:ext cx="4584600" cy="58572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" descr=""/>
          <p:cNvPicPr/>
          <p:nvPr/>
        </p:nvPicPr>
        <p:blipFill>
          <a:blip r:embed="rId2"/>
          <a:stretch/>
        </p:blipFill>
        <p:spPr>
          <a:xfrm>
            <a:off x="920880" y="2494080"/>
            <a:ext cx="7229520" cy="366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4"/>
          <p:cNvSpPr/>
          <p:nvPr/>
        </p:nvSpPr>
        <p:spPr>
          <a:xfrm>
            <a:off x="0" y="521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795240" y="-150120"/>
            <a:ext cx="7705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66ff33"/>
                </a:solidFill>
                <a:latin typeface="Traditional Arabic"/>
                <a:cs typeface="Traditional Arabic"/>
              </a:rPr>
              <a:t>التوجيه</a:t>
            </a:r>
            <a:r>
              <a:rPr b="1" lang="ar-DZ" sz="3600" spc="-1" strike="noStrike">
                <a:solidFill>
                  <a:srgbClr val="66ff33"/>
                </a:solidFill>
                <a:latin typeface="Traditional Arabic"/>
                <a:ea typeface="Traditional Arab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D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يتم توجيه الطلبة إلى الأقسام والفروع  حسب ما يلي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                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ـ رغبة الطالب ( استمارة التخصص)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    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ـ المعدل الترتيبي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     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</a:t>
            </a: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ـ المعدل النوعي حسب كل فرع يعتمد على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                           مواد تعليمية أساس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584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AutoShape 5"/>
          <p:cNvSpPr/>
          <p:nvPr/>
        </p:nvSpPr>
        <p:spPr>
          <a:xfrm>
            <a:off x="1428840" y="1285920"/>
            <a:ext cx="6572160" cy="42148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رافقة البيداغوج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utora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(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cs typeface="Traditional Arabic"/>
              </a:rPr>
              <a:t>قرار وزاري مؤرخ في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16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جوان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2010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+ المرسوم التنفيذي رقم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09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-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03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المؤرخ في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3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جانفي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2009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الجريدة الرسمية العدد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01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ص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27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-  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28</a:t>
            </a:r>
            <a:r>
              <a:rPr b="1" lang="ar-DZ" sz="2800" spc="-1" strike="noStrike">
                <a:solidFill>
                  <a:srgbClr val="c00000"/>
                </a:solidFill>
                <a:latin typeface="Traditional Arabic"/>
                <a:ea typeface="Traditional Arabic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AutoShape 4"/>
          <p:cNvSpPr/>
          <p:nvPr/>
        </p:nvSpPr>
        <p:spPr>
          <a:xfrm>
            <a:off x="0" y="0"/>
            <a:ext cx="9072720" cy="5143680"/>
          </a:xfrm>
          <a:prstGeom prst="flowChartDocumen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00b0f0"/>
                </a:solidFill>
                <a:latin typeface="Traditional Arabic"/>
                <a:cs typeface="Traditional Arabic"/>
              </a:rPr>
              <a:t>ما المقصود بالمرافقة البيداغوجي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مرافقة البيداغوجية تعني استقبال الطلبة بعد الأوقات البيداغوجية الرسمية المسطرة من طــــــــرف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إدارة لغرض تقديم لهم مساعدات تعليمية تخص المحاضرات ، الأعمال التطبيقية أو الأعمــــــال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فردية التي يجب القيام بها الهدف منها تلقينهم المعلومات و المعارف و زيادة مداركهــــــــــــــم في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يادين شتى منها اللغات و الوسائل التكنولوجية و غيرها ، و تستلزم المرافقة البيداغوجية للطلبة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تكفل المستمر و الدائم بتسهيل الحصول على المعلومات و الحلول المطلوبة في حينها حـول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محيط الجامعي من بداية التكوين لتسهيل الاندماج في الحياة المهنية و عالم الشغل  بعد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انتهاء من الدراسة  و حصول الطالب على الشهادة المرجوة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AutoShape 12"/>
          <p:cNvSpPr/>
          <p:nvPr/>
        </p:nvSpPr>
        <p:spPr>
          <a:xfrm>
            <a:off x="214200" y="214200"/>
            <a:ext cx="8643960" cy="485784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ا الجوانب التي تكتيسها مهمة الإشراف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ي الحقيقة إن مهمة الإشراف  على الطلبة حسب مستوياتهم و المراحل المختلف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ن نظام الـ </a:t>
            </a:r>
            <a:r>
              <a:rPr b="1" lang="fr-FR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LMD</a:t>
            </a:r>
            <a:r>
              <a:rPr b="1" lang="fr-FR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تطلب الاهتمام و مراعاة جوانب عديدة ترتبط بحياة الطال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الفردية او الجماعية سوى داخل الحرم الجامعي ( المدرج ، قاعات التدريس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خبر ، الزيارات و الخرجات البيداغوجية )أو خارج الجامعة في محيطه الاجتماع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و الاقتصادي و يتعلق ذلك بما يلي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4479840" y="14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2031840" y="797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0" name="Text Box 9"/>
          <p:cNvGrpSpPr/>
          <p:nvPr/>
        </p:nvGrpSpPr>
        <p:grpSpPr>
          <a:xfrm>
            <a:off x="2987640" y="2987640"/>
            <a:ext cx="2747880" cy="1641240"/>
            <a:chOff x="2987640" y="2987640"/>
            <a:chExt cx="2747880" cy="1641240"/>
          </a:xfrm>
        </p:grpSpPr>
        <p:pic>
          <p:nvPicPr>
            <p:cNvPr id="821" name="Text Box 9" descr=""/>
            <p:cNvPicPr/>
            <p:nvPr/>
          </p:nvPicPr>
          <p:blipFill>
            <a:blip r:embed="rId1"/>
            <a:stretch/>
          </p:blipFill>
          <p:spPr>
            <a:xfrm>
              <a:off x="2987640" y="2987640"/>
              <a:ext cx="274788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3071880" y="3071880"/>
              <a:ext cx="2581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000000"/>
                  </a:solidFill>
                  <a:latin typeface="Traditional Arabic"/>
                  <a:cs typeface="Traditional Arabic"/>
                </a:rPr>
                <a:t>الجوانب التي تكتسيها مهمة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000000"/>
                  </a:solidFill>
                  <a:latin typeface="Traditional Arabic"/>
                  <a:ea typeface="Traditional Arabic"/>
                </a:rPr>
                <a:t> الإشراف آو المرافقة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3" name="Line 12"/>
          <p:cNvSpPr/>
          <p:nvPr/>
        </p:nvSpPr>
        <p:spPr>
          <a:xfrm flipH="1" flipV="1">
            <a:off x="3857400" y="2071800"/>
            <a:ext cx="500040" cy="100008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500040" y="142920"/>
            <a:ext cx="4000680" cy="3448080"/>
          </a:xfrm>
          <a:prstGeom prst="rect">
            <a:avLst/>
          </a:prstGeom>
          <a:gradFill rotWithShape="0">
            <a:gsLst>
              <a:gs pos="0">
                <a:srgbClr val="748560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بيداغوج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مرافقة بيداغوجية لغرض تنظيم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عمل الفردي للطالب و مساعدته على تخطي العقب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و المعترضات التي تحول بينه و بين انجاز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لأعمال المنوطة إليه من طرف الفريق البيداغوجي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أو مسئول المادة أو الوحدة التعليمية</a:t>
            </a:r>
            <a:r>
              <a:rPr b="1" lang="ar-DZ" sz="20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Line 14"/>
          <p:cNvSpPr/>
          <p:nvPr/>
        </p:nvSpPr>
        <p:spPr>
          <a:xfrm flipV="1">
            <a:off x="5000760" y="1999800"/>
            <a:ext cx="857160" cy="10717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Text Box 15"/>
          <p:cNvSpPr/>
          <p:nvPr/>
        </p:nvSpPr>
        <p:spPr>
          <a:xfrm>
            <a:off x="4929120" y="71280"/>
            <a:ext cx="3786120" cy="3448080"/>
          </a:xfrm>
          <a:prstGeom prst="rect">
            <a:avLst/>
          </a:prstGeom>
          <a:gradFill rotWithShape="0">
            <a:gsLst>
              <a:gs pos="0">
                <a:srgbClr val="7030a0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إعلامي و إداري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استقبال و توجيه الطالب الجديد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تسهيل إدماجه في الجامعة من خلال الوساط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تي يقوم بها المشرف لنسج علاق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ين الطالب و المصالح الإداري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ن شانها تسهيل و إيجاد الحلول المناسب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Line 16"/>
          <p:cNvSpPr/>
          <p:nvPr/>
        </p:nvSpPr>
        <p:spPr>
          <a:xfrm flipH="1" flipV="1">
            <a:off x="2356920" y="3357360"/>
            <a:ext cx="714600" cy="2142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Text Box 17"/>
          <p:cNvSpPr/>
          <p:nvPr/>
        </p:nvSpPr>
        <p:spPr>
          <a:xfrm>
            <a:off x="142920" y="2428920"/>
            <a:ext cx="2214360" cy="2685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منهجي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تلقين الطالب لمناهج العمل الجامعي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بصفة فردية أو جماعية تجعله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يكتسب مهارات منهجية في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ي عمل يقوم بانجازه</a:t>
            </a:r>
            <a:r>
              <a:rPr b="0" lang="ar-D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Line 18"/>
          <p:cNvSpPr/>
          <p:nvPr/>
        </p:nvSpPr>
        <p:spPr>
          <a:xfrm>
            <a:off x="4643280" y="3929040"/>
            <a:ext cx="1143000" cy="15001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Text Box 19"/>
          <p:cNvSpPr/>
          <p:nvPr/>
        </p:nvSpPr>
        <p:spPr>
          <a:xfrm>
            <a:off x="3929040" y="5391000"/>
            <a:ext cx="3500640" cy="2426760"/>
          </a:xfrm>
          <a:prstGeom prst="rect">
            <a:avLst/>
          </a:prstGeom>
          <a:gradFill rotWithShape="0">
            <a:gsLst>
              <a:gs pos="0">
                <a:srgbClr val="514a38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نفسي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مراعاة الحالة النفسية للطالب من خلال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حفيزه و حثه على متابعة مساره التكويني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هما اعترضته من مشاكل غير بيداغوجية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قد تؤدي إلى زعزعته من الناحية النفسية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Line 20"/>
          <p:cNvSpPr/>
          <p:nvPr/>
        </p:nvSpPr>
        <p:spPr>
          <a:xfrm>
            <a:off x="5643720" y="3500280"/>
            <a:ext cx="714240" cy="4608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21"/>
          <p:cNvSpPr/>
          <p:nvPr/>
        </p:nvSpPr>
        <p:spPr>
          <a:xfrm>
            <a:off x="6357960" y="2054160"/>
            <a:ext cx="2603520" cy="450036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تقني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توجيه الطالب في اكتساب قدرات و كفاءة في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عمال الأدوات و الدعائم البيداغوجية و وسائل التكنولوجيا الحديثة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عمال الإعلام الآلي و البرامج المختلفة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( 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Word , Exel , PowerPoint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,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عمال  الانترنت 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Internet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ستعمال  الداتاشوا </a:t>
            </a:r>
            <a:r>
              <a:rPr b="1" lang="fr-FR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Dataschow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غيرها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Line 16"/>
          <p:cNvSpPr/>
          <p:nvPr/>
        </p:nvSpPr>
        <p:spPr>
          <a:xfrm flipH="1">
            <a:off x="3214800" y="3929040"/>
            <a:ext cx="714240" cy="42876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17"/>
          <p:cNvSpPr/>
          <p:nvPr/>
        </p:nvSpPr>
        <p:spPr>
          <a:xfrm>
            <a:off x="214200" y="4314960"/>
            <a:ext cx="3429000" cy="216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انب مهني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طلب مساعدة الطالب على إعداد مشروعه المهني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 بداية التكوين إلى غاية حصوله على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هادة المرغوب فيها حتى يسهل إدماجه في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DZ" sz="17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حياة المهنية و عالم الشغل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7"/>
          <p:cNvSpPr/>
          <p:nvPr/>
        </p:nvSpPr>
        <p:spPr>
          <a:xfrm>
            <a:off x="-1357200" y="242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04-2005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: طبق في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0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مؤسسات 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-1285920" y="32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05-2006: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طبق في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9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مؤسسة 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-1357200" y="4071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06-2007: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طبق في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41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مؤسسة 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-36360" y="61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نبذة تاريخية حول نظام ل م 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ظهر ه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ذا النظام في ال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ولايات المتحدة الامريكية وبريطانيا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، ثم عمم في الدول الأوربية ام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في الجزائر طبق هذ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النظام وفقا للمرسوم التنفيذي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رقم 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71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-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4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يوم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1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نوفمبر </a:t>
            </a:r>
            <a:r>
              <a:rPr b="1" lang="ar-SA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0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5"/>
          <p:cNvSpPr/>
          <p:nvPr/>
        </p:nvSpPr>
        <p:spPr>
          <a:xfrm rot="10800000">
            <a:off x="7786440" y="2428560"/>
            <a:ext cx="718920" cy="587160"/>
          </a:xfrm>
          <a:prstGeom prst="pi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6"/>
          <p:cNvSpPr/>
          <p:nvPr/>
        </p:nvSpPr>
        <p:spPr>
          <a:xfrm rot="10800000">
            <a:off x="7858080" y="3214440"/>
            <a:ext cx="719280" cy="587160"/>
          </a:xfrm>
          <a:prstGeom prst="pi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7"/>
          <p:cNvSpPr/>
          <p:nvPr/>
        </p:nvSpPr>
        <p:spPr>
          <a:xfrm rot="10800000">
            <a:off x="7858080" y="4143240"/>
            <a:ext cx="719280" cy="587520"/>
          </a:xfrm>
          <a:prstGeom prst="pi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17"/>
          <p:cNvSpPr/>
          <p:nvPr/>
        </p:nvSpPr>
        <p:spPr>
          <a:xfrm rot="10800000">
            <a:off x="7929360" y="5143320"/>
            <a:ext cx="718920" cy="587160"/>
          </a:xfrm>
          <a:prstGeom prst="pi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-121428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013: </a:t>
            </a:r>
            <a:r>
              <a:rPr b="1" lang="ar-DZ" sz="36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طبق تقريبا في جميع المؤسسات الجامعي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826920" y="2781000"/>
            <a:ext cx="7467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04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1" lang="ar-DZ" sz="60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ليات اعداد عروض التكوين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المرجع دليل اعداد عروض التكوين لليسانس والماستر (مرفق مطبو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320" algn="ct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النظام الوطني لحساب الأرصدة</a:t>
            </a:r>
            <a:r>
              <a:rPr b="0" lang="ar-SA" sz="2200" spc="-1" strike="noStrike" u="sng">
                <a:solidFill>
                  <a:srgbClr val="ffffff"/>
                </a:solidFill>
                <a:uFillTx/>
                <a:latin typeface="Traditional Arabic"/>
                <a:ea typeface="Traditional Arabic"/>
              </a:rPr>
              <a:t> 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والمعاملات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الحجم الساعي المحدد للحضور في الأسبوع = 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ea typeface="Traditional Arabic"/>
              </a:rPr>
              <a:t>25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ea typeface="Traditional Arabic"/>
              </a:rPr>
              <a:t> ساعة </a:t>
            </a:r>
            <a:r>
              <a:rPr b="1" lang="ar-DZ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ولمدة </a:t>
            </a:r>
            <a:r>
              <a:rPr b="1" lang="ar-DZ" sz="2200" spc="-1" strike="noStrike" u="sng">
                <a:solidFill>
                  <a:srgbClr val="ffffff"/>
                </a:solidFill>
                <a:uFillTx/>
                <a:latin typeface="Traditional Arabic"/>
                <a:ea typeface="Traditional Arabic"/>
              </a:rPr>
              <a:t>15</a:t>
            </a:r>
            <a:r>
              <a:rPr b="1" lang="ar-DZ" sz="2200" spc="-1" strike="noStrike" u="sng">
                <a:solidFill>
                  <a:srgbClr val="ffffff"/>
                </a:solidFill>
                <a:uFillTx/>
                <a:latin typeface="Traditional Arabic"/>
                <a:ea typeface="Traditional Arabic"/>
              </a:rPr>
              <a:t> أسبوع في السداسي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الحجم الساعي المحدد للحضور للوحدات التعليم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مجموع الحجم الساعي المحدد للحضور لوحدات التعليم الأساسي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3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/ الأسبوع (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8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أرصد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6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% من الأرصدة/السداسي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جموع الحجم الساعي المحدد للحضور لوحدات التعليم المنهجي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7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/ الأسبوع (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9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أرصد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% من الأرصدة/السداسي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مجموع الحجم الساعي المحدد للحضور لوحدات التعليم الاستكشافية والأفقي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4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س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/ الأسبوع (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أرصدة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% من الأرصدة/السداسي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r>
              <a:rPr b="1" lang="ar-SA" sz="2200" spc="-1" strike="noStrike" u="sng">
                <a:solidFill>
                  <a:srgbClr val="ffffff"/>
                </a:solidFill>
                <a:uFillTx/>
                <a:latin typeface="Traditional Arabic"/>
                <a:cs typeface="Traditional Arabic"/>
              </a:rPr>
              <a:t>حساب الأرصدة والمعاملات لوحدات التعلي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ساب الأرصدة والمعاملات لوحدات التعليم الأساسية و المنهجية (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رصيد =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5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ساعة ( حضوري + عمل شخصي 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جم ساع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في الأسبوع (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2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حضوري +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7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عمل شخصي في السداسي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أرصدة ومعامل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جم ساع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في الأسبوع (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5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حضوري +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00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عمل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شخصي في السداسي =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رصيد ومعامل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) (خاص بالساعة السابعة لوحدة التعليم المنهجية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ساب الأرصدة والمعاملات لوحدات التعليم الاستكشافية والأفقية (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رصيد =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5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ساعة ( حضوري + عمل شخصي 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just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جم ساعي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في الأسبوع (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2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حضوري +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2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س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30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عمل شخصي في السداسي =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رصيد ومعامل 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)</a:t>
            </a:r>
            <a:r>
              <a:rPr b="1" lang="fr-FR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.</a:t>
            </a:r>
            <a:r>
              <a:rPr b="1" lang="ar-SA" sz="2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3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9037800" cy="659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"/>
          <p:cNvPicPr/>
          <p:nvPr/>
        </p:nvPicPr>
        <p:blipFill>
          <a:blip r:embed="rId1"/>
          <a:stretch/>
        </p:blipFill>
        <p:spPr>
          <a:xfrm>
            <a:off x="34920" y="71280"/>
            <a:ext cx="9037800" cy="674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072720" cy="674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3" descr=""/>
          <p:cNvPicPr/>
          <p:nvPr/>
        </p:nvPicPr>
        <p:blipFill>
          <a:blip r:embed="rId1"/>
          <a:stretch/>
        </p:blipFill>
        <p:spPr>
          <a:xfrm>
            <a:off x="144360" y="44280"/>
            <a:ext cx="8891640" cy="674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"/>
          <p:cNvPicPr/>
          <p:nvPr/>
        </p:nvPicPr>
        <p:blipFill>
          <a:blip r:embed="rId1"/>
          <a:stretch/>
        </p:blipFill>
        <p:spPr>
          <a:xfrm>
            <a:off x="108000" y="71280"/>
            <a:ext cx="8856720" cy="667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826920" y="2781000"/>
            <a:ext cx="746784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تقييم الامكانيات المادية والبشرية</a:t>
            </a:r>
            <a:r>
              <a:rPr b="0" lang="ar-DZ" sz="54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"/>
          <p:cNvPicPr/>
          <p:nvPr/>
        </p:nvPicPr>
        <p:blipFill>
          <a:blip r:embed="rId1"/>
          <a:stretch/>
        </p:blipFill>
        <p:spPr>
          <a:xfrm>
            <a:off x="108000" y="233280"/>
            <a:ext cx="8891640" cy="639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14200" y="-1407960"/>
            <a:ext cx="842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ff33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3300"/>
                </a:solidFill>
                <a:latin typeface="Tahoma"/>
                <a:ea typeface="Traditional Arabic"/>
              </a:rPr>
              <a:t> فلسفة الإصل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abic Typesetting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تكيف مع الحداثة و محيط الجام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abic Typesetting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تجاوز النقائص التي عرفها نظام التعليم العا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abic Typesetting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تمكين الجامعة من أداء دور فعال في عملية التكو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abic Typesetting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الإصلاح جزء من إستراتيجية تطوير قطاع التكوين و يمثل جانبا هاما من برنامج الحكومة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14200" y="1476000"/>
            <a:ext cx="8358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33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ahoma"/>
                <a:ea typeface="Traditional Arabic"/>
              </a:rPr>
              <a:t> </a:t>
            </a:r>
            <a:r>
              <a:rPr b="1" lang="ar-DZ" sz="3200" spc="-1" strike="noStrike">
                <a:solidFill>
                  <a:srgbClr val="ff3300"/>
                </a:solidFill>
                <a:latin typeface="Tahoma"/>
                <a:ea typeface="Traditional Arabic"/>
              </a:rPr>
              <a:t> الأهدا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</a:t>
            </a:r>
            <a:r>
              <a:rPr b="1" lang="ar-DZ" sz="2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دعم طابع المرفق العام للمؤسسة الجام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حفاظ على ديمقراطية التعلي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ضمان تكوين نوعي  يستجيب للمقاييس الدو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تسهيل الاندماج في المحيط الاجتماعي  و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تـأسيس التكوين المتواص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تكيف مع التطورات الدو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رفع من حظوظ نجاح الطالب و تقليص الاخفاق الجامعي و التسيب من خلال المرافقة البيداغوجية للطال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6640" cy="674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tqsi289bjot9m5xpf1sn"/>
          <p:cNvPicPr/>
          <p:nvPr/>
        </p:nvPicPr>
        <p:blipFill>
          <a:blip r:embed="rId1"/>
          <a:stretch/>
        </p:blipFill>
        <p:spPr>
          <a:xfrm>
            <a:off x="0" y="-552600"/>
            <a:ext cx="9391680" cy="74106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4"/>
          <p:cNvSpPr/>
          <p:nvPr/>
        </p:nvSpPr>
        <p:spPr>
          <a:xfrm>
            <a:off x="1285920" y="2786040"/>
            <a:ext cx="6846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شكرا لكم على</a:t>
            </a:r>
            <a:r>
              <a:rPr b="1" lang="ar-DZ" sz="44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ffffff"/>
                </a:solidFill>
                <a:latin typeface="Traditional Arabic"/>
                <a:cs typeface="Traditional Arabic"/>
              </a:rPr>
              <a:t>حسن المتابعة و الإصغا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85800" y="4351320"/>
            <a:ext cx="1692360" cy="2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1714680" y="2500200"/>
            <a:ext cx="4800600" cy="609840"/>
          </a:xfrm>
          <a:prstGeom prst="rect">
            <a:avLst/>
          </a:prstGeom>
          <a:solidFill>
            <a:srgbClr val="000000"/>
          </a:solidFill>
          <a:ln w="28440">
            <a:solidFill>
              <a:srgbClr val="6ea0b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ل = ليسانس</a:t>
            </a:r>
            <a:r>
              <a:rPr b="1" lang="fr-FR" sz="3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1" lang="fr-FR" sz="3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0" lang="fr-F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 = Lic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63640" y="3933720"/>
            <a:ext cx="4724640" cy="609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6ea0b0"/>
                </a:solidFill>
                <a:latin typeface="Traditional Arabic"/>
                <a:cs typeface="Traditional Arabic"/>
              </a:rPr>
              <a:t>م= ماستر</a:t>
            </a:r>
            <a:r>
              <a:rPr b="1" lang="fr-FR" sz="3600" spc="-1" strike="noStrike">
                <a:solidFill>
                  <a:srgbClr val="6ea0b0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6ea0b0"/>
                </a:solidFill>
                <a:latin typeface="Traditional Arabic"/>
                <a:ea typeface="Traditional Arabic"/>
              </a:rPr>
              <a:t> </a:t>
            </a:r>
            <a:r>
              <a:rPr b="1" lang="fr-FR" sz="3600" spc="-1" strike="noStrike">
                <a:solidFill>
                  <a:srgbClr val="6ea0b0"/>
                </a:solidFill>
                <a:latin typeface="Traditional Arabic"/>
                <a:ea typeface="Traditional Arabic"/>
              </a:rPr>
              <a:t> </a:t>
            </a:r>
            <a:r>
              <a:rPr b="0" lang="fr-FR" sz="3600" spc="-1" strike="noStrike">
                <a:solidFill>
                  <a:srgbClr val="6ea0b0"/>
                </a:solidFill>
                <a:latin typeface="Times New Roman"/>
                <a:ea typeface="Times New Roman"/>
              </a:rPr>
              <a:t>M = Mas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847880" y="5445000"/>
            <a:ext cx="4724280" cy="609840"/>
          </a:xfrm>
          <a:prstGeom prst="rect">
            <a:avLst/>
          </a:prstGeom>
          <a:solidFill>
            <a:srgbClr val="000000"/>
          </a:solidFill>
          <a:ln w="28440">
            <a:solidFill>
              <a:srgbClr val="6ea0b0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raditional Arabic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9966ff"/>
                </a:solidFill>
                <a:latin typeface="Traditional Arabic"/>
                <a:cs typeface="Traditional Arabic"/>
              </a:rPr>
              <a:t>د = دكتوراه</a:t>
            </a:r>
            <a:r>
              <a:rPr b="1" lang="fr-FR" sz="3600" spc="-1" strike="noStrike">
                <a:solidFill>
                  <a:srgbClr val="9966ff"/>
                </a:solidFill>
                <a:latin typeface="Traditional Arabic"/>
                <a:ea typeface="Traditional Arabic"/>
              </a:rPr>
              <a:t>  </a:t>
            </a:r>
            <a:r>
              <a:rPr b="1" lang="ar-SA" sz="3600" spc="-1" strike="noStrike">
                <a:solidFill>
                  <a:srgbClr val="9966ff"/>
                </a:solidFill>
                <a:latin typeface="Traditional Arabic"/>
                <a:ea typeface="Traditional Arabic"/>
              </a:rPr>
              <a:t> </a:t>
            </a:r>
            <a:r>
              <a:rPr b="1" lang="fr-FR" sz="3600" spc="-1" strike="noStrike">
                <a:solidFill>
                  <a:srgbClr val="9966ff"/>
                </a:solidFill>
                <a:latin typeface="Traditional Arabic"/>
                <a:ea typeface="Traditional Arabic"/>
              </a:rPr>
              <a:t> </a:t>
            </a:r>
            <a:r>
              <a:rPr b="0" lang="fr-FR" sz="36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D = Doctor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124000" y="384120"/>
            <a:ext cx="4568760" cy="6764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66ff33"/>
                </a:solidFill>
                <a:latin typeface="Times New Roman"/>
                <a:cs typeface="Traditional Arabic"/>
              </a:rPr>
              <a:t>المصطلحات الجوهرية </a:t>
            </a:r>
            <a:r>
              <a:rPr b="1" lang="ar-SA" sz="3600" spc="-1" strike="noStrike">
                <a:solidFill>
                  <a:srgbClr val="66ff33"/>
                </a:solidFill>
                <a:latin typeface="Times New Roman"/>
                <a:cs typeface="Traditional Arabic"/>
              </a:rPr>
              <a:t>لنظام</a:t>
            </a:r>
            <a:r>
              <a:rPr b="1" lang="ar-DZ" sz="3600" spc="-1" strike="noStrike">
                <a:solidFill>
                  <a:srgbClr val="66ff33"/>
                </a:solidFill>
                <a:latin typeface="Times New Roman"/>
                <a:ea typeface="Traditional Arabic"/>
              </a:rPr>
              <a:t> ل م 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-1020600"/>
            <a:ext cx="9144000" cy="88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9e98e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9e98e"/>
                </a:solidFill>
                <a:latin typeface="Tahoma"/>
                <a:ea typeface="Traditional Arabic"/>
              </a:rPr>
              <a:t> عرض التكوين 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Offre de Formation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ar-DZ" sz="2800" spc="-1" strike="noStrike">
                <a:solidFill>
                  <a:srgbClr val="f9e98e"/>
                </a:solidFill>
                <a:latin typeface="Tahoma"/>
                <a:ea typeface="Traditional Arabic"/>
              </a:rPr>
              <a:t> </a:t>
            </a:r>
            <a:r>
              <a:rPr b="1" lang="ar-DZ" sz="2400" spc="-1" strike="noStrike">
                <a:solidFill>
                  <a:srgbClr val="f9e98e"/>
                </a:solidFill>
                <a:latin typeface="Tahoma"/>
                <a:ea typeface="Traditional Arabic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	</a:t>
            </a:r>
            <a:r>
              <a:rPr b="1" lang="fr-FR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	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يشمل مجموعة متجانسة من المواد التعليمية  تهدف إلى تلقين الطلبة المعارف و الكفاءات  و </a:t>
            </a:r>
            <a:r>
              <a:rPr b="1" lang="ar-SA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ينظم التعليم في وحدات تعليم منسجمة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تعتمد على </a:t>
            </a:r>
            <a:r>
              <a:rPr b="1" lang="ar-SA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أهداف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واضحة في ال</a:t>
            </a:r>
            <a:r>
              <a:rPr b="1" lang="ar-SA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تكوين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لتلبية حاجات علمية أو كفاءات أو قدرات ذات مردود خاص أو مميز على مستوى محلي أو وطني  و يحضر من طرف فرقة التكوين ليأخذ التأهيل من الوزارة الوص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f2f2f2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 </a:t>
            </a:r>
            <a:r>
              <a:rPr b="1" lang="ar-DZ" sz="2800" spc="-1" strike="noStrike">
                <a:solidFill>
                  <a:srgbClr val="f9e98e"/>
                </a:solidFill>
                <a:latin typeface="Tahoma"/>
                <a:cs typeface="Traditional Arabic"/>
              </a:rPr>
              <a:t>التأهيل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Habilitation</a:t>
            </a: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	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         هي الطريقة التي من خلالها  تعترف و تقر الدولة  بنوعية  التكوين من خلال إصدار شهادة أو دبلو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9e98e"/>
              </a:buClr>
              <a:buFont typeface="Arabic Typesetting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الميدان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Domaine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: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مجموعة من الفروع و الاختصاصات متجانسة و متناسقة لغرض تكوين نوعي فعال يؤهل الاندماج في الحياة المهن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f2f2f2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 </a:t>
            </a: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فريق التكوين 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Equipe de Formation</a:t>
            </a:r>
            <a:r>
              <a:rPr b="1" lang="ar-DZ" sz="2400" spc="-1" strike="noStrike">
                <a:solidFill>
                  <a:srgbClr val="f2f2f2"/>
                </a:solidFill>
                <a:latin typeface="Arabic Typesetting"/>
                <a:ea typeface="Arabic Typesetting"/>
              </a:rPr>
              <a:t>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: مجموعة من الأساتذة مكلفة بتحرير و متابعة السير الحسن لمحتويات عرض التكوين ، و تعتني باستقبال و توجيه الطلبة  و تسير التطور و الارتقاء في مسار التكوين  و ضمان المرافقة البيداغوجية أو الإشراف على الطلب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f2f2f2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2f2f2"/>
                </a:solidFill>
                <a:latin typeface="Tahoma"/>
                <a:ea typeface="Traditional Arabic"/>
              </a:rPr>
              <a:t> </a:t>
            </a: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مسار التكوين  </a:t>
            </a:r>
            <a:r>
              <a:rPr b="1" lang="fr-FR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Parcours types</a:t>
            </a:r>
            <a:r>
              <a:rPr b="1" lang="ar-DZ" sz="28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: </a:t>
            </a:r>
            <a:r>
              <a:rPr b="1" lang="ar-DZ" sz="2400" spc="-1" strike="noStrike">
                <a:solidFill>
                  <a:srgbClr val="f2f2f2"/>
                </a:solidFill>
                <a:latin typeface="Tahoma"/>
                <a:cs typeface="Traditional Arabic"/>
              </a:rPr>
              <a:t>في كل ميدان تقترح مجموعة من مسارات التكوين  توضع بهدف تنمية و تثمين الترقية البيداغوجية  لأحد المسارات  الذي يشتمل على وحدات تعليمية إجبارية  أو اختيارية  قد يكون هذا المسار أكاديمي ( تعليمي) أو مهني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85840" y="-1021320"/>
            <a:ext cx="8358120" cy="67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9e98e"/>
              </a:buClr>
              <a:buFont typeface="Arabic Typesetting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الجسور 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Passerelle</a:t>
            </a: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:</a:t>
            </a: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وهي إمكانية الارتقاء في العديد من الاختيارات  و امكانية التوجيه و إعادة التوجيه من فرع الى فرع أومن اختصاص إلى آخر أو من ميدان إلى ميدان تكوين آخر مع الاحتفاظ بالوحدات المتحصل عليها سابق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9e98e"/>
              </a:buClr>
              <a:buFont typeface="Arabic Typesetting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رأس المال   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Capitalisation</a:t>
            </a: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:</a:t>
            </a: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هو</a:t>
            </a: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حصول النهائي على الوحدات التعليمية  التي قدرت بنقطة تساوي او تفوق المعد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الحركية 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Mobilité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: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وهي السماح بحركية الطالب من مسار تكوين إلى أخر أو من جامعة إلى أخري  واحتفاظه بالوحدات التعليمية المتحصل عليها ساب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57120" y="3553560"/>
            <a:ext cx="83361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cs typeface="Arabic Typesetting"/>
              </a:rPr>
              <a:t>المادة التعليمية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Matière d’Enseignement</a:t>
            </a:r>
            <a:r>
              <a:rPr b="1" lang="fr-FR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: تدرس خلال السداسي بشكل محاضرات ، أعمال موجهة و/ أو أعمال تطبيقية، العمل الفردي ، التربصات و مشروع بحث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f9e98e"/>
              </a:buClr>
              <a:buFont typeface="Arabic Typesetting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>
                <a:solidFill>
                  <a:srgbClr val="f9e98e"/>
                </a:solidFill>
                <a:latin typeface="Arabic Typesetting"/>
                <a:ea typeface="Arabic Typesetting"/>
              </a:rPr>
              <a:t> السداسي الدراسي :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يمثل  بمجموع ارصدة المواد التعليمية خلال فترة زمنية من (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13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15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) أسبوع قدرعدد ارصدته ب 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30</a:t>
            </a:r>
            <a:r>
              <a:rPr b="1" lang="ar-DZ" sz="2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رصي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041480" y="7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بنية الميدان، المسار والوحد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Rectangle 7"/>
          <p:cNvGrpSpPr/>
          <p:nvPr/>
        </p:nvGrpSpPr>
        <p:grpSpPr>
          <a:xfrm>
            <a:off x="1609560" y="774720"/>
            <a:ext cx="6070680" cy="1249200"/>
            <a:chOff x="1609560" y="774720"/>
            <a:chExt cx="6070680" cy="1249200"/>
          </a:xfrm>
        </p:grpSpPr>
        <p:pic>
          <p:nvPicPr>
            <p:cNvPr id="283" name="Rectangle 7" descr=""/>
            <p:cNvPicPr/>
            <p:nvPr/>
          </p:nvPicPr>
          <p:blipFill>
            <a:blip r:embed="rId1"/>
            <a:stretch/>
          </p:blipFill>
          <p:spPr>
            <a:xfrm>
              <a:off x="1609560" y="774720"/>
              <a:ext cx="60706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92360" y="857160"/>
              <a:ext cx="59040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الميدان يحتوي على عدة مسارات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5" name="Rectangle 8"/>
          <p:cNvGrpSpPr/>
          <p:nvPr/>
        </p:nvGrpSpPr>
        <p:grpSpPr>
          <a:xfrm>
            <a:off x="1030320" y="2408400"/>
            <a:ext cx="1755720" cy="963360"/>
            <a:chOff x="1030320" y="2408400"/>
            <a:chExt cx="1755720" cy="963360"/>
          </a:xfrm>
        </p:grpSpPr>
        <p:pic>
          <p:nvPicPr>
            <p:cNvPr id="286" name="Rectangle 8" descr=""/>
            <p:cNvPicPr/>
            <p:nvPr/>
          </p:nvPicPr>
          <p:blipFill>
            <a:blip r:embed="rId2"/>
            <a:stretch/>
          </p:blipFill>
          <p:spPr>
            <a:xfrm>
              <a:off x="1030320" y="2408400"/>
              <a:ext cx="1755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116000" y="2494080"/>
              <a:ext cx="1582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المسار</a:t>
              </a:r>
              <a:r>
                <a:rPr b="0" lang="ar-DZ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..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8" name="Rectangle 9"/>
          <p:cNvGrpSpPr/>
          <p:nvPr/>
        </p:nvGrpSpPr>
        <p:grpSpPr>
          <a:xfrm>
            <a:off x="2700360" y="2408400"/>
            <a:ext cx="1755720" cy="963360"/>
            <a:chOff x="2700360" y="2408400"/>
            <a:chExt cx="1755720" cy="963360"/>
          </a:xfrm>
        </p:grpSpPr>
        <p:pic>
          <p:nvPicPr>
            <p:cNvPr id="289" name="Rectangle 9" descr=""/>
            <p:cNvPicPr/>
            <p:nvPr/>
          </p:nvPicPr>
          <p:blipFill>
            <a:blip r:embed="rId3"/>
            <a:stretch/>
          </p:blipFill>
          <p:spPr>
            <a:xfrm>
              <a:off x="2700360" y="2408400"/>
              <a:ext cx="1755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786040" y="2494080"/>
              <a:ext cx="1582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المسار</a:t>
              </a:r>
              <a:r>
                <a:rPr b="0" lang="ar-DZ" sz="36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</a:t>
              </a:r>
              <a:r>
                <a:rPr b="0" lang="ar-DZ" sz="36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1" name="Rectangle 10"/>
          <p:cNvGrpSpPr/>
          <p:nvPr/>
        </p:nvGrpSpPr>
        <p:grpSpPr>
          <a:xfrm>
            <a:off x="4413240" y="2408400"/>
            <a:ext cx="1755720" cy="963360"/>
            <a:chOff x="4413240" y="2408400"/>
            <a:chExt cx="1755720" cy="963360"/>
          </a:xfrm>
        </p:grpSpPr>
        <p:pic>
          <p:nvPicPr>
            <p:cNvPr id="292" name="Rectangle 10" descr=""/>
            <p:cNvPicPr/>
            <p:nvPr/>
          </p:nvPicPr>
          <p:blipFill>
            <a:blip r:embed="rId4"/>
            <a:stretch/>
          </p:blipFill>
          <p:spPr>
            <a:xfrm>
              <a:off x="4413240" y="2408400"/>
              <a:ext cx="1755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00720" y="2494080"/>
              <a:ext cx="158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المسار</a:t>
              </a:r>
              <a:r>
                <a:rPr b="0" lang="ar-DZ" sz="36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Rectangle 11"/>
          <p:cNvGrpSpPr/>
          <p:nvPr/>
        </p:nvGrpSpPr>
        <p:grpSpPr>
          <a:xfrm>
            <a:off x="6072120" y="2408400"/>
            <a:ext cx="1755720" cy="963360"/>
            <a:chOff x="6072120" y="2408400"/>
            <a:chExt cx="1755720" cy="963360"/>
          </a:xfrm>
        </p:grpSpPr>
        <p:pic>
          <p:nvPicPr>
            <p:cNvPr id="295" name="Rectangle 11" descr=""/>
            <p:cNvPicPr/>
            <p:nvPr/>
          </p:nvPicPr>
          <p:blipFill>
            <a:blip r:embed="rId5"/>
            <a:stretch/>
          </p:blipFill>
          <p:spPr>
            <a:xfrm>
              <a:off x="6072120" y="2408400"/>
              <a:ext cx="1755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56360" y="2494080"/>
              <a:ext cx="1582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المسار</a:t>
              </a:r>
              <a:r>
                <a:rPr b="0" lang="ar-DZ" sz="36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Rectangle 13"/>
          <p:cNvGrpSpPr/>
          <p:nvPr/>
        </p:nvGrpSpPr>
        <p:grpSpPr>
          <a:xfrm>
            <a:off x="1676520" y="3986280"/>
            <a:ext cx="5717880" cy="1176120"/>
            <a:chOff x="1676520" y="3986280"/>
            <a:chExt cx="5717880" cy="1176120"/>
          </a:xfrm>
        </p:grpSpPr>
        <p:pic>
          <p:nvPicPr>
            <p:cNvPr id="298" name="Rectangle 13" descr=""/>
            <p:cNvPicPr/>
            <p:nvPr/>
          </p:nvPicPr>
          <p:blipFill>
            <a:blip r:embed="rId6"/>
            <a:stretch/>
          </p:blipFill>
          <p:spPr>
            <a:xfrm>
              <a:off x="1676520" y="3986280"/>
              <a:ext cx="5717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763640" y="4071960"/>
              <a:ext cx="5545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كل مسار يحتوي على وحدات</a:t>
              </a: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0" name="AutoShape 14"/>
          <p:cNvSpPr/>
          <p:nvPr/>
        </p:nvSpPr>
        <p:spPr>
          <a:xfrm rot="16200000">
            <a:off x="4140360" y="-1455480"/>
            <a:ext cx="792000" cy="7561440"/>
          </a:xfrm>
          <a:custGeom>
            <a:avLst/>
            <a:gdLst>
              <a:gd name="textAreaLeft" fmla="*/ 0 w 792000"/>
              <a:gd name="textAreaRight" fmla="*/ 285840 w 792000"/>
              <a:gd name="textAreaTop" fmla="*/ 196920 h 7561440"/>
              <a:gd name="textAreaBottom" fmla="*/ 7364520 h 756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1" name="Group 35"/>
          <p:cNvGrpSpPr/>
          <p:nvPr/>
        </p:nvGrpSpPr>
        <p:grpSpPr>
          <a:xfrm>
            <a:off x="2340000" y="3274920"/>
            <a:ext cx="4433760" cy="2296800"/>
            <a:chOff x="2340000" y="3274920"/>
            <a:chExt cx="4433760" cy="2296800"/>
          </a:xfrm>
        </p:grpSpPr>
        <p:sp>
          <p:nvSpPr>
            <p:cNvPr id="302" name="Line 28"/>
            <p:cNvSpPr/>
            <p:nvPr/>
          </p:nvSpPr>
          <p:spPr>
            <a:xfrm flipV="1">
              <a:off x="5292720" y="3274920"/>
              <a:ext cx="0" cy="28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6773760" y="3276000"/>
              <a:ext cx="0" cy="2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>
              <a:off x="2341440" y="3584160"/>
              <a:ext cx="4391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 flipV="1">
              <a:off x="3564000" y="3285360"/>
              <a:ext cx="0" cy="2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 flipV="1">
              <a:off x="2340000" y="3285360"/>
              <a:ext cx="0" cy="2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4500720" y="359532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>
              <a:off x="4500720" y="5068800"/>
              <a:ext cx="0" cy="50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9" name="Line 36"/>
          <p:cNvSpPr/>
          <p:nvPr/>
        </p:nvSpPr>
        <p:spPr>
          <a:xfrm>
            <a:off x="2124000" y="714240"/>
            <a:ext cx="4969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0" name="Rectangle 13"/>
          <p:cNvGrpSpPr/>
          <p:nvPr/>
        </p:nvGrpSpPr>
        <p:grpSpPr>
          <a:xfrm>
            <a:off x="1700280" y="5486400"/>
            <a:ext cx="5718240" cy="1176480"/>
            <a:chOff x="1700280" y="5486400"/>
            <a:chExt cx="5718240" cy="1176480"/>
          </a:xfrm>
        </p:grpSpPr>
        <p:pic>
          <p:nvPicPr>
            <p:cNvPr id="311" name="Rectangle 13" descr=""/>
            <p:cNvPicPr/>
            <p:nvPr/>
          </p:nvPicPr>
          <p:blipFill>
            <a:blip r:embed="rId7"/>
            <a:stretch/>
          </p:blipFill>
          <p:spPr>
            <a:xfrm>
              <a:off x="1700280" y="5486400"/>
              <a:ext cx="57182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785960" y="5572080"/>
              <a:ext cx="5545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cs typeface="Traditional Arabic"/>
                </a:rPr>
                <a:t>كل وحدة تحتوي على مواد تعليمية</a:t>
              </a:r>
              <a:r>
                <a:rPr b="1" lang="ar-DZ" sz="3600" spc="-1" strike="noStrike">
                  <a:solidFill>
                    <a:srgbClr val="000000"/>
                  </a:solidFill>
                  <a:latin typeface="Arial"/>
                  <a:ea typeface="Traditional Arabic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advTm="10000"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57120" y="2000160"/>
            <a:ext cx="828684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af0a"/>
                </a:solidFill>
                <a:latin typeface="Tahoma"/>
                <a:cs typeface="Traditional Arabic"/>
              </a:rPr>
              <a:t>المرحلة الأولى = شهادة البكالوريا + </a:t>
            </a:r>
            <a:r>
              <a:rPr b="1" lang="fr-FR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 سنوات تتوج بشهادة الليسان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af0a"/>
                </a:solidFill>
                <a:latin typeface="Tahoma"/>
                <a:cs typeface="Traditional Arabic"/>
              </a:rPr>
              <a:t>المرحلة الثانية = شهادة البكالوريا + </a:t>
            </a:r>
            <a:r>
              <a:rPr b="1" lang="fr-FR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 سنوات تتوج بشهادة الماست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af0a"/>
                </a:solidFill>
                <a:latin typeface="Tahoma"/>
                <a:cs typeface="Traditional Arabic"/>
              </a:rPr>
              <a:t>المرحلة الثالثة = شهادة البكالوريا + </a:t>
            </a:r>
            <a:r>
              <a:rPr b="1" lang="fr-FR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8</a:t>
            </a:r>
            <a:r>
              <a:rPr b="1" lang="ar-SA" sz="2800" spc="-1" strike="noStrike">
                <a:solidFill>
                  <a:srgbClr val="ccaf0a"/>
                </a:solidFill>
                <a:latin typeface="Tahoma"/>
                <a:ea typeface="Traditional Arabic"/>
              </a:rPr>
              <a:t> سنوات تتوج بشهادة الدكتورا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57120" y="785880"/>
            <a:ext cx="831852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ahoma"/>
                <a:cs typeface="Traditional Arabic"/>
              </a:rPr>
              <a:t>ـ </a:t>
            </a:r>
            <a:r>
              <a:rPr b="1" lang="ar-SA" sz="2800" spc="-1" strike="noStrike">
                <a:solidFill>
                  <a:srgbClr val="a50021"/>
                </a:solidFill>
                <a:latin typeface="Tahoma"/>
                <a:cs typeface="Traditional Arabic"/>
              </a:rPr>
              <a:t>تنظم مسارات التكوين في شكل وحدات تعليم وفق سداسيات لكل مرحلة تتوج كل مرحلة بشهاد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WordArt 5"/>
          <p:cNvSpPr txBox="1"/>
          <p:nvPr/>
        </p:nvSpPr>
        <p:spPr>
          <a:xfrm>
            <a:off x="2428920" y="142920"/>
            <a:ext cx="4537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raditional Arabic"/>
              </a:rPr>
              <a:t>تنظيم مسارات التكوين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57120" y="3380400"/>
            <a:ext cx="8358120" cy="31420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 rtl="1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DZ" sz="2400" spc="-1" strike="noStrike">
                <a:solidFill>
                  <a:srgbClr val="000000"/>
                </a:solidFill>
                <a:latin typeface="Tahoma"/>
                <a:cs typeface="Traditional Arabic"/>
              </a:rPr>
              <a:t>ينظم التعليم في نظام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LMD</a:t>
            </a:r>
            <a:r>
              <a:rPr b="1" lang="ar-DZ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في سداسيات دراسة ، يقيم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DZ" sz="2400" spc="-1" strike="noStrike">
                <a:solidFill>
                  <a:srgbClr val="000000"/>
                </a:solidFill>
                <a:latin typeface="Tahoma"/>
                <a:cs typeface="Traditional Arabic"/>
              </a:rPr>
              <a:t>فيها الموسم الجامعي الذي يتكون من سداسيين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ahoma"/>
                <a:cs typeface="Traditional Arabic"/>
              </a:rPr>
              <a:t>كل سداسي يتضمن وحدات تعليمية 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U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nités d’Enseignement (UE)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.</a:t>
            </a:r>
            <a:r>
              <a:rPr b="1" lang="ar-DZ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تتكون الوحدة التعليمية من مادة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Matière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DZ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و أكث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1:47:05Z</dcterms:created>
  <dc:creator>PC3</dc:creator>
  <dc:description/>
  <dc:language>en-US</dc:language>
  <cp:lastModifiedBy>ACI</cp:lastModifiedBy>
  <dcterms:modified xsi:type="dcterms:W3CDTF">2017-04-04T03:12:02Z</dcterms:modified>
  <cp:revision>296</cp:revision>
  <dc:subject/>
  <dc:title>كيفية تجاوب نباتات العائلة النجيلية المزروعة للسموم الفطرية خلال المراحل الأولى من النمو</dc:title>
</cp:coreProperties>
</file>